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6.jpeg" ContentType="image/jpeg"/>
  <Override PartName="/ppt/media/image27.png" ContentType="image/pn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9.jpeg" ContentType="image/jpeg"/>
  <Override PartName="/ppt/media/image3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4.gif" ContentType="image/gif"/>
  <Override PartName="/ppt/media/image15.png" ContentType="image/png"/>
  <Override PartName="/ppt/media/image16.png" ContentType="image/png"/>
  <Override PartName="/ppt/media/image18.wmf" ContentType="image/x-wmf"/>
  <Override PartName="/ppt/media/image17.png" ContentType="image/png"/>
  <Override PartName="/ppt/media/image20.wmf" ContentType="image/x-wmf"/>
  <Override PartName="/ppt/media/image26.jpeg" ContentType="image/jpeg"/>
  <Override PartName="/ppt/media/image19.wmf" ContentType="image/x-wmf"/>
  <Override PartName="/ppt/media/image10.jpeg" ContentType="image/jpeg"/>
  <Override PartName="/ppt/media/image21.gif" ContentType="image/gif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1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>
            <a:off x="-360" y="9124920"/>
            <a:ext cx="63594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Developed by the Department of Science and Environmental Stud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3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5773-8D14-444F-95BD-7BCDF5A651E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blog.friendseat.com/los-angeles-bans-plastic-bags-at-supermarkets" TargetMode="External"/><Relationship Id="rId2" Type="http://schemas.openxmlformats.org/officeDocument/2006/relationships/hyperlink" Target="http://orientaldaily.on.cc/cnt/news/20090718/00176_099.html" TargetMode="External"/><Relationship Id="rId3" Type="http://schemas.openxmlformats.org/officeDocument/2006/relationships/hyperlink" Target="http://stu.hksyu.edu/~shuo/shuoV2/viewEntry.php?entryID=n2008041483" TargetMode="External"/><Relationship Id="rId4" Type="http://schemas.openxmlformats.org/officeDocument/2006/relationships/hyperlink" Target="http://www.ccckeiwan.edu.hk/student_con/sci/greenlife/green_1112_02.htm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E6ED-8F1D-413D-A173-93B1741A092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1. </a:t>
            </a:r>
            <a:r>
              <a:rPr b="1" lang="zh-TW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塑膠廢物的回收率高／低 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低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zh-TW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「塑膠廢物回收率極低」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2. </a:t>
            </a:r>
            <a:r>
              <a:rPr b="1" lang="zh-TW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回收設施不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街頭垃圾桶及回收桶比例嚴重失衡，平均每二十個垃圾桶才有一個回收桶。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條件欠衛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回收桶的蓋沒有人清洗，十分骯髒，令人不想使用回收桶。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理解不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市民對回收塑膠意識不足，誤以為只得膠樽可回收，將多數可回收塑膠直扔垃圾桶。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未建立回收習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ED24-B635-402B-A982-B1B4290A55B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EE79-25E7-4EFB-AF57-E9B1C6AE3F3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老師幫助學生整合在課節一和二所談及，導致堆填區飽和的原因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個人行為意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貪方便（例：沒有自備購物袋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即棄文化（例：用塑膠餐具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消費習慣（例：經常購買膠樽裝飲料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過度包裝和使用塑膠－浪費（例：用多於一個保鮮膠袋盛載水果、過度包裝麵包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未建立回收習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外在條件限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回收設施不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條件欠衛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理解不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回收塑膠認知不足、分類知識不足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how.com/how_10018260_calculate-leaching-landfill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A54F-AEF2-4DF7-B42B-437362FDEB9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讓學生反思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我們能在堆填區裡找到哪些塑膠製品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它們是否真的是廢物？沒用？沒有價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如果它們還有價值，那又為甚麼仍會被棄置在堆填區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塑膠廢物對環境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ACB6-A3EC-41F7-B9E3-A3B4329EAA5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以問題及圖像，引導學生思考人們使用塑膠的原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建議思考方向：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連繋塑膠使用與人們的生活方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建議思考問題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到超級市場購物時，有沒有自備購物袋？還是會貪方便濫用膠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如果你在沒有自備購物袋的情況下，看見想買的東西，又不想濫用膠袋，你會怎樣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在推行膠袋徴費後，你們有否在超級市場拿大量免費提供的保鮮膠袋，來代替需徵費的膠袋盛載所購買的物品？這是出於甚麼心態？貪方便？慳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利用保鮮膠袋袋蔬果，膠袋可以因蔬果的重量而穿洞，有些人會因而使用兩個保鮮膠袋，你認為這些確保安全還是浪費膠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會否自備餐具外出用膳／開派對？還是會怕麻煩，使用即用即棄的塑膠餐具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在你放學回家途中，家人請你到快餐店替他買一個下午茶外賣回家，而快餐店一定會使用發泡膠盒作為外賣盒，那你會選擇幫助家人還是環保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有沒有自備水樽的習慣？還是習慣到處購買膠樽裝飲料，製造大量膠樽垃圾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如果你很想飲可樂，但買可樂便會製造膠樽垃圾，你會怎樣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每天購買報紙時，是否會怕弄污雙手而使用報紙檔提供的膠袋？每天如是的話，知否會耗用多少塑膠？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如果你購買報紙時，報紙檔已預先把報紙用膠袋袋好，你會直接把袋裝報紙拿走，或是把膠袋脫下交還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到麵包店購買麵包時，會用多少膠袋包裝麵包？會否用多於一個膠袋？這又是否必須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跟朋友一起到麵包店購買麵包，每人一個膠袋會方便大家吃麵包，但會多浪費一個膠袋，你會怎樣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會否購買生產商預先用膠袋包裝好的散件貨品，以方便攜帶？哪些散件貨品其實是否必須要用膠袋包裝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一袋四支裝的飲品會比分別買四支飲品便宜，但會多浪費一個膠袋，你會選購哪一樣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或你們的父母會否為求方便或感覺較乾淨衞生，而選擇到超級市場購買用保鮮紙獨立包裝的蔬果？如此包裝是否必須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答案歸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貪方便（例：沒有自備購物袋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即棄文化（例：用塑膠餐具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消費習慣（例：經常購買膠樽裝飲料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過度包裝－浪費（例：用多於一個保鮮膠袋盛載水果、過度包裝麵包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log.friendseat.com/los-angeles-bans-plastic-bags-at-super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ldaily.on.cc/cnt/news/20090718/00176_099.html#para5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tu.hksyu.edu/~shuo/shuoV2/viewEntry.php?entryID=n20080414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cckeiwan.edu.hk/student_con/sci/greenlife/green_1112_02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cuhkacs.org/~henryporter/blog/tag.php?tag=%E7%92%B0%E4%BF%9D%E7%B4%85%E8%A1%9B%E5%85%B5&amp;mode=&amp;mode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treehugger.com/corporate-responsibility/rural-north-carolinians-adapting-to-landfill-plastic-bottle-ba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xelein.mysinablog.com/index.php?op=Default&amp;Date=2009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yuuji.wordpress.com/tag/eal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C93B-31A9-4350-9C86-758CB5D5656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1AC1-ECC9-4B38-ACA5-26956A74E62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C6AE-1D36-4DA3-B6C5-B4C6A8D9D25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2860-570A-4FB7-A614-04A515DA6CC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E052-3F70-456B-AF39-A5202D9691C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1B5A3-F32C-495D-864B-52C7B5CD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E6C61-40FD-4873-86C5-1703BBAF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5EC442-095C-4656-A67C-CF6AB7CA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B60C03-B15D-4A4D-881F-E96348D8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DED03-9C5C-4EB5-B394-4D508981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8187AE-1664-4FA5-809C-95A3C7D3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6CAC8-22E7-4FC8-B6AE-0A5ECBBF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73B90B-75B1-4489-9585-5E84D4DF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83AA58-5A3B-4EA4-9954-14B6370A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D38F0-7416-497E-9522-68248D32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5CD2A3-2F9A-4F44-B240-FE378646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44A770-9B31-4659-A294-DC591B0F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0C5B08-5945-4311-A38D-B3109F68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E35B3-3895-4CC2-BB87-07602862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E05F85-2923-4831-8E3B-07B1FF42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051E9-55AF-42F2-B678-EE9DEF8B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73286-6D55-4DF1-8384-AD6C98C0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C89429-1389-45A8-A460-BB7CC877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5B2F4D-A1EC-476E-8774-6D7CF986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F6A64-CF9F-48EC-8BED-FF9E5944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70338-7767-45A5-B1D6-2534F4D2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CFEC5-4627-4CB2-86A1-115EE58D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4C934-66A7-4E63-9BE2-020028D7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E5227-831A-4C7D-9869-2A2005F0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4C6D-EBA1-4A57-B455-EFE2944CDCF0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0012-367C-46A9-9DA3-3A161315D5C8}" type="datetime">
              <a:rPr b="0" lang="zh-TW" sz="1200" spc="-1" strike="noStrike">
                <a:solidFill>
                  <a:srgbClr val="1f497d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5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3E63-026A-4ED7-B327-E37A7C187EF2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6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CD5C-34C3-42C1-9156-1DD4105946ED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8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DF81-E9D3-4ABC-915E-CE5F7794F875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9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FB2D-9135-4478-982C-E06927F7D794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pd.gov.hk/epd/tc_chi/environmentinhk/waste/prob_solutions/msw_racl.html" TargetMode="External"/><Relationship Id="rId3" Type="http://schemas.openxmlformats.org/officeDocument/2006/relationships/hyperlink" Target="http://www.epd.gov.hk/epd/tc_chi/environmentinhk/waste/prob_solutions/msw_racl.html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epd.gov.hk/epd/tc_chi/environmentinhk/waste/prob_solutions/msw_nent.html" TargetMode="External"/><Relationship Id="rId3" Type="http://schemas.openxmlformats.org/officeDocument/2006/relationships/hyperlink" Target="http://www.epd.gov.hk/epd/tc_chi/environmentinhk/waste/prob_solutions/msw_nent.html" TargetMode="External"/><Relationship Id="rId4" Type="http://schemas.openxmlformats.org/officeDocument/2006/relationships/hyperlink" Target="http://www.epd.gov.hk/epd/tc_chi/environmentinhk/waste/prob_solutions/msw_nent.html" TargetMode="External"/><Relationship Id="rId5" Type="http://schemas.openxmlformats.org/officeDocument/2006/relationships/hyperlink" Target="http://www.epd.gov.hk/epd/tc_chi/environmentinhk/waste/prob_solutions/msw_racl.html" TargetMode="External"/><Relationship Id="rId6" Type="http://schemas.openxmlformats.org/officeDocument/2006/relationships/hyperlink" Target="http://www.epd.gov.hk/epd/tc_chi/environmentinhk/waste/prob_solutions/msw_strategic.html" TargetMode="External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pd.gov.hk/epd/tc_chi/environmentinhk/waste/prob_solutions/msw_racl.html" TargetMode="External"/><Relationship Id="rId2" Type="http://schemas.openxmlformats.org/officeDocument/2006/relationships/hyperlink" Target="http://www.epd.gov.hk/epd/tc_chi/environmentinhk/waste/prob_solutions/msw_nent.html" TargetMode="External"/><Relationship Id="rId3" Type="http://schemas.openxmlformats.org/officeDocument/2006/relationships/hyperlink" Target="http://www.epd.gov.hk/epd/tc_chi/environmentinhk/waste/prob_solutions/msw_sent.html" TargetMode="External"/><Relationship Id="rId4" Type="http://schemas.openxmlformats.org/officeDocument/2006/relationships/hyperlink" Target="http://www.epd.gov.hk/epd/tc_chi/environmentinhk/waste/prob_solutions/msw_went.html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www.epd.gov.hk/epd/tc_chi/environmentinhk/waste/prob_solutions/msw_nent.html" TargetMode="External"/><Relationship Id="rId7" Type="http://schemas.openxmlformats.org/officeDocument/2006/relationships/hyperlink" Target="http://www.epd.gov.hk/epd/tc_chi/environmentinhk/waste/prob_solutions/msw_nent.html" TargetMode="External"/><Relationship Id="rId8" Type="http://schemas.openxmlformats.org/officeDocument/2006/relationships/hyperlink" Target="http://www.epd.gov.hk/epd/tc_chi/environmentinhk/waste/prob_solutions/msw_nent.html" TargetMode="External"/><Relationship Id="rId9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the-sun.on.cc/cnt/news/20120502/00407_023.html?pubdate=20120502" TargetMode="Externa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A8B3-B283-4803-9688-7FBCB369944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一和二：塑膠廢物從何來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166" name="Picture 3" descr="D:\Temp\Temporary Internet Files\Content.IE5\FJTRQHA2\MC900238208[1].wmf"/>
          <p:cNvPicPr/>
          <p:nvPr/>
        </p:nvPicPr>
        <p:blipFill>
          <a:blip r:embed="rId1"/>
          <a:stretch/>
        </p:blipFill>
        <p:spPr>
          <a:xfrm>
            <a:off x="4859280" y="2997360"/>
            <a:ext cx="2881440" cy="3408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Oval 37"/>
          <p:cNvSpPr/>
          <p:nvPr/>
        </p:nvSpPr>
        <p:spPr>
          <a:xfrm>
            <a:off x="1042920" y="549360"/>
            <a:ext cx="5545080" cy="10080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alibri"/>
                <a:ea typeface="新細明體"/>
              </a:rPr>
              <a:t>塑膠廢物的回收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圖片 34" descr="C:\Users\fa\AppData\Local\Microsoft\Windows\Temporary Internet Files\Content.IE5\YECB24O5\MC900215197[1].wmf"/>
          <p:cNvPicPr/>
          <p:nvPr/>
        </p:nvPicPr>
        <p:blipFill>
          <a:blip r:embed="rId1"/>
          <a:stretch/>
        </p:blipFill>
        <p:spPr>
          <a:xfrm>
            <a:off x="7020000" y="260280"/>
            <a:ext cx="1728720" cy="1635120"/>
          </a:xfrm>
          <a:prstGeom prst="rect">
            <a:avLst/>
          </a:prstGeom>
          <a:ln w="0">
            <a:noFill/>
          </a:ln>
        </p:spPr>
      </p:pic>
      <p:pic>
        <p:nvPicPr>
          <p:cNvPr id="243" name="圖片 35" descr="C:\Users\fa\AppData\Local\Microsoft\Windows\Temporary Internet Files\Content.IE5\33KN794B\MC900304047[1].wmf"/>
          <p:cNvPicPr/>
          <p:nvPr/>
        </p:nvPicPr>
        <p:blipFill>
          <a:blip r:embed="rId2"/>
          <a:stretch/>
        </p:blipFill>
        <p:spPr>
          <a:xfrm>
            <a:off x="6227640" y="404640"/>
            <a:ext cx="722520" cy="14176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8"/>
          <p:cNvSpPr/>
          <p:nvPr/>
        </p:nvSpPr>
        <p:spPr>
          <a:xfrm>
            <a:off x="1979640" y="3213000"/>
            <a:ext cx="5761080" cy="2232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. </a:t>
            </a:r>
            <a:r>
              <a:rPr b="1" lang="zh-TW" sz="2800" spc="-1" strike="noStrike">
                <a:solidFill>
                  <a:srgbClr val="0000ff"/>
                </a:solidFill>
                <a:latin typeface="Calibri"/>
              </a:rPr>
              <a:t>為甚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9"/>
          <p:cNvSpPr/>
          <p:nvPr/>
        </p:nvSpPr>
        <p:spPr>
          <a:xfrm>
            <a:off x="826920" y="1773360"/>
            <a:ext cx="4249800" cy="1079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新細明體"/>
              </a:rPr>
              <a:t>1. </a:t>
            </a:r>
            <a:r>
              <a:rPr b="1" lang="zh-TW" sz="2800" spc="-1" strike="noStrike">
                <a:solidFill>
                  <a:srgbClr val="0000ff"/>
                </a:solidFill>
                <a:latin typeface="Calibri"/>
                <a:ea typeface="新細明體"/>
              </a:rPr>
              <a:t>塑膠廢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    </a:t>
            </a:r>
            <a:r>
              <a:rPr b="1" lang="zh-TW" sz="2800" spc="-1" strike="noStrike">
                <a:solidFill>
                  <a:srgbClr val="0000ff"/>
                </a:solidFill>
                <a:latin typeface="Calibri"/>
                <a:ea typeface="新細明體"/>
              </a:rPr>
              <a:t>回收率高／低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圖片 36" descr="C:\Users\fa\AppData\Local\Microsoft\Windows\Temporary Internet Files\Content.IE5\N0QKX2ZJ\MM900356589[1].gif"/>
          <p:cNvPicPr/>
          <p:nvPr/>
        </p:nvPicPr>
        <p:blipFill>
          <a:blip r:embed="rId3"/>
          <a:stretch/>
        </p:blipFill>
        <p:spPr>
          <a:xfrm>
            <a:off x="395280" y="2924280"/>
            <a:ext cx="1685880" cy="1512720"/>
          </a:xfrm>
          <a:prstGeom prst="rect">
            <a:avLst/>
          </a:prstGeom>
          <a:ln w="0">
            <a:noFill/>
          </a:ln>
        </p:spPr>
      </p:pic>
      <p:pic>
        <p:nvPicPr>
          <p:cNvPr id="247" name="圖片 25" descr="plastic.gif"/>
          <p:cNvPicPr/>
          <p:nvPr/>
        </p:nvPicPr>
        <p:blipFill>
          <a:blip r:embed="rId4"/>
          <a:stretch/>
        </p:blipFill>
        <p:spPr>
          <a:xfrm>
            <a:off x="179280" y="189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graph 1.jpg"/>
          <p:cNvPicPr/>
          <p:nvPr/>
        </p:nvPicPr>
        <p:blipFill>
          <a:blip r:embed="rId5"/>
          <a:stretch/>
        </p:blipFill>
        <p:spPr>
          <a:xfrm>
            <a:off x="4011480" y="1731960"/>
            <a:ext cx="2486160" cy="1676520"/>
          </a:xfrm>
          <a:prstGeom prst="rect">
            <a:avLst/>
          </a:prstGeom>
          <a:ln w="0">
            <a:noFill/>
          </a:ln>
        </p:spPr>
      </p:pic>
      <p:sp>
        <p:nvSpPr>
          <p:cNvPr id="249" name="Oval 15"/>
          <p:cNvSpPr/>
          <p:nvPr/>
        </p:nvSpPr>
        <p:spPr>
          <a:xfrm>
            <a:off x="2987640" y="2205000"/>
            <a:ext cx="576360" cy="647640"/>
          </a:xfrm>
          <a:prstGeom prst="ellipse">
            <a:avLst/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D:\Temp\Temporary Internet Files\Content.IE5\Q1PSUET3\MC900040383[1].wmf"/>
          <p:cNvPicPr/>
          <p:nvPr/>
        </p:nvPicPr>
        <p:blipFill>
          <a:blip r:embed="rId6"/>
          <a:stretch/>
        </p:blipFill>
        <p:spPr>
          <a:xfrm>
            <a:off x="6875640" y="2781360"/>
            <a:ext cx="1753920" cy="1824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D:\Temp\Temporary Internet Files\Content.IE5\Q1PSUET3\MC900441902[1].wmf"/>
          <p:cNvPicPr/>
          <p:nvPr/>
        </p:nvPicPr>
        <p:blipFill>
          <a:blip r:embed="rId7"/>
          <a:stretch/>
        </p:blipFill>
        <p:spPr>
          <a:xfrm>
            <a:off x="5148360" y="3789360"/>
            <a:ext cx="1520640" cy="17971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1"/>
          <p:cNvSpPr/>
          <p:nvPr/>
        </p:nvSpPr>
        <p:spPr>
          <a:xfrm>
            <a:off x="2124000" y="3789360"/>
            <a:ext cx="2952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回收設施不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條件欠衛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理解不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未建立回收習慣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2B1C-339B-410B-A1A1-DB79C1CFE6E5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7"/>
          <p:cNvSpPr/>
          <p:nvPr/>
        </p:nvSpPr>
        <p:spPr>
          <a:xfrm>
            <a:off x="655308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170E-5DE8-4E16-8421-C12F0A8AC4E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59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猜一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矩形圖說文字 4"/>
          <p:cNvSpPr/>
          <p:nvPr/>
        </p:nvSpPr>
        <p:spPr>
          <a:xfrm>
            <a:off x="1692360" y="907920"/>
            <a:ext cx="6983280" cy="865440"/>
          </a:xfrm>
          <a:prstGeom prst="wedgeRectCallout">
            <a:avLst>
              <a:gd name="adj1" fmla="val -36685"/>
              <a:gd name="adj2" fmla="val -89472"/>
            </a:avLst>
          </a:prstGeom>
          <a:solidFill>
            <a:srgbClr val="fcd5b5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</a:rPr>
              <a:t>小朋友，你們知道香港有多少個堆填區已被填滿</a:t>
            </a: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Image of map"/>
          <p:cNvPicPr/>
          <p:nvPr/>
        </p:nvPicPr>
        <p:blipFill>
          <a:blip r:embed="rId1"/>
          <a:stretch/>
        </p:blipFill>
        <p:spPr>
          <a:xfrm>
            <a:off x="593640" y="1824120"/>
            <a:ext cx="8010720" cy="4773600"/>
          </a:xfrm>
          <a:prstGeom prst="rect">
            <a:avLst/>
          </a:prstGeom>
          <a:ln w="0">
            <a:noFill/>
          </a:ln>
        </p:spPr>
      </p:pic>
      <p:sp>
        <p:nvSpPr>
          <p:cNvPr id="260" name="七角星形 6"/>
          <p:cNvSpPr/>
          <p:nvPr/>
        </p:nvSpPr>
        <p:spPr>
          <a:xfrm>
            <a:off x="324000" y="4221000"/>
            <a:ext cx="3024000" cy="2087640"/>
          </a:xfrm>
          <a:prstGeom prst="pie">
            <a:avLst/>
          </a:prstGeom>
          <a:solidFill>
            <a:srgbClr val="ff00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omic Sans MS"/>
              </a:rPr>
              <a:t>１３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6569280"/>
            <a:ext cx="65167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資料來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epd.gov.hk/epd/tc_chi/environmentinhk/waste/prob_solutions/msw_rac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0"/>
          <p:cNvSpPr/>
          <p:nvPr/>
        </p:nvSpPr>
        <p:spPr>
          <a:xfrm>
            <a:off x="7740720" y="6237360"/>
            <a:ext cx="946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5FAE-D8AA-438D-91E5-7A8D4CEC3472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395280" y="981000"/>
            <a:ext cx="7777080" cy="5616720"/>
            <a:chOff x="395280" y="981000"/>
            <a:chExt cx="7777080" cy="5616720"/>
          </a:xfrm>
        </p:grpSpPr>
        <p:pic>
          <p:nvPicPr>
            <p:cNvPr id="265" name="內容版面配置區 10" descr="map_landf.gif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777708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文字方塊 6"/>
            <p:cNvSpPr/>
            <p:nvPr/>
          </p:nvSpPr>
          <p:spPr>
            <a:xfrm>
              <a:off x="4140000" y="1937160"/>
              <a:ext cx="180000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2"/>
                </a:rPr>
                <a:t>新界東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字方塊 7"/>
            <p:cNvSpPr/>
            <p:nvPr/>
          </p:nvSpPr>
          <p:spPr>
            <a:xfrm>
              <a:off x="1187280" y="3187080"/>
              <a:ext cx="158436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3"/>
                </a:rPr>
                <a:t>新界西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字方塊 8"/>
            <p:cNvSpPr/>
            <p:nvPr/>
          </p:nvSpPr>
          <p:spPr>
            <a:xfrm>
              <a:off x="5580000" y="4950720"/>
              <a:ext cx="180000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4"/>
                </a:rPr>
                <a:t>新界東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0" y="6569280"/>
            <a:ext cx="77407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資料來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http://www.epd.gov.hk/epd/tc_chi/environmentinhk/waste/prob_solutions/msw_strategi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十角星形 7"/>
          <p:cNvSpPr/>
          <p:nvPr/>
        </p:nvSpPr>
        <p:spPr>
          <a:xfrm>
            <a:off x="7020000" y="3284640"/>
            <a:ext cx="1873080" cy="17287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３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圖說文字 4"/>
          <p:cNvSpPr/>
          <p:nvPr/>
        </p:nvSpPr>
        <p:spPr>
          <a:xfrm>
            <a:off x="1476360" y="44280"/>
            <a:ext cx="6480360" cy="936720"/>
          </a:xfrm>
          <a:prstGeom prst="wedgeRectCallout">
            <a:avLst>
              <a:gd name="adj1" fmla="val 62226"/>
              <a:gd name="adj2" fmla="val -46064"/>
            </a:avLst>
          </a:prstGeom>
          <a:solidFill>
            <a:srgbClr val="ccc1da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mic Sans MS"/>
              </a:rPr>
              <a:t>那你們又知道現時香港有多少個堆填區嗎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5981400"/>
            <a:ext cx="665964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資料來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ttp://www.epd.gov.hk/epd/tc_chi/environmentinhk/waste/prob_solutions/msw_n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http://www.epd.gov.hk/epd/tc_chi/environmentinhk/waste/prob_solutions/msw_s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epd.gov.hk/epd/tc_chi/environmentinhk/waste/prob_solutions/msw_w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內容版面配置區 8"/>
          <p:cNvSpPr/>
          <p:nvPr/>
        </p:nvSpPr>
        <p:spPr>
          <a:xfrm>
            <a:off x="2484360" y="115920"/>
            <a:ext cx="5832720" cy="865080"/>
          </a:xfrm>
          <a:prstGeom prst="wedgeRectCallout">
            <a:avLst>
              <a:gd name="adj1" fmla="val -55819"/>
              <a:gd name="adj2" fmla="val -37717"/>
            </a:avLst>
          </a:prstGeom>
          <a:solidFill>
            <a:srgbClr val="8eb4e3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mic Sans MS"/>
              </a:rPr>
              <a:t>你們估計它們將在何時飽和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1"/>
          <p:cNvGrpSpPr/>
          <p:nvPr/>
        </p:nvGrpSpPr>
        <p:grpSpPr>
          <a:xfrm>
            <a:off x="900000" y="1052640"/>
            <a:ext cx="7704360" cy="5113080"/>
            <a:chOff x="900000" y="1052640"/>
            <a:chExt cx="7704360" cy="5113080"/>
          </a:xfrm>
        </p:grpSpPr>
        <p:pic>
          <p:nvPicPr>
            <p:cNvPr id="280" name="內容版面配置區 10" descr="map_landf.gif"/>
            <p:cNvPicPr/>
            <p:nvPr/>
          </p:nvPicPr>
          <p:blipFill>
            <a:blip r:embed="rId5"/>
            <a:stretch/>
          </p:blipFill>
          <p:spPr>
            <a:xfrm>
              <a:off x="900000" y="1052640"/>
              <a:ext cx="7704360" cy="51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文字方塊 6"/>
            <p:cNvSpPr/>
            <p:nvPr/>
          </p:nvSpPr>
          <p:spPr>
            <a:xfrm>
              <a:off x="4572000" y="1844640"/>
              <a:ext cx="187164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6"/>
                </a:rPr>
                <a:t>新界東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字方塊 7"/>
            <p:cNvSpPr/>
            <p:nvPr/>
          </p:nvSpPr>
          <p:spPr>
            <a:xfrm>
              <a:off x="1692000" y="2997360"/>
              <a:ext cx="156852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7"/>
                </a:rPr>
                <a:t>新界西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字方塊 8"/>
            <p:cNvSpPr/>
            <p:nvPr/>
          </p:nvSpPr>
          <p:spPr>
            <a:xfrm>
              <a:off x="6012000" y="4581720"/>
              <a:ext cx="178416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8"/>
                </a:rPr>
                <a:t>新界東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直線圖說文字 1 10"/>
          <p:cNvSpPr/>
          <p:nvPr/>
        </p:nvSpPr>
        <p:spPr>
          <a:xfrm>
            <a:off x="4643280" y="2421000"/>
            <a:ext cx="1657440" cy="360360"/>
          </a:xfrm>
          <a:prstGeom prst="borderCallout1">
            <a:avLst>
              <a:gd name="adj1" fmla="val 18750"/>
              <a:gd name="adj2" fmla="val -8333"/>
              <a:gd name="adj3" fmla="val -57981"/>
              <a:gd name="adj4" fmla="val 3806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２０１６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線圖說文字 1 15"/>
          <p:cNvSpPr/>
          <p:nvPr/>
        </p:nvSpPr>
        <p:spPr>
          <a:xfrm>
            <a:off x="4643280" y="2852640"/>
            <a:ext cx="1657440" cy="360360"/>
          </a:xfrm>
          <a:prstGeom prst="borderCallout1">
            <a:avLst>
              <a:gd name="adj1" fmla="val 18750"/>
              <a:gd name="adj2" fmla="val -8333"/>
              <a:gd name="adj3" fmla="val 92722"/>
              <a:gd name="adj4" fmla="val -8268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２０１８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線圖說文字 1 16"/>
          <p:cNvSpPr/>
          <p:nvPr/>
        </p:nvSpPr>
        <p:spPr>
          <a:xfrm>
            <a:off x="4643280" y="3284640"/>
            <a:ext cx="1657440" cy="360360"/>
          </a:xfrm>
          <a:prstGeom prst="borderCallout1">
            <a:avLst>
              <a:gd name="adj1" fmla="val 18750"/>
              <a:gd name="adj2" fmla="val -8333"/>
              <a:gd name="adj3" fmla="val 361101"/>
              <a:gd name="adj4" fmla="val 10467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２０１４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13"/>
          <p:cNvSpPr/>
          <p:nvPr/>
        </p:nvSpPr>
        <p:spPr>
          <a:xfrm>
            <a:off x="6659640" y="6381720"/>
            <a:ext cx="94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F1C5-46B6-48DD-80E2-C4D2A4E8DCE2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2133720"/>
            <a:ext cx="3816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因為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個人行為意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外在條件限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內容版面配置區 8"/>
          <p:cNvSpPr/>
          <p:nvPr/>
        </p:nvSpPr>
        <p:spPr>
          <a:xfrm>
            <a:off x="755640" y="333360"/>
            <a:ext cx="7561440" cy="1224000"/>
          </a:xfrm>
          <a:prstGeom prst="wedgeRectCallout">
            <a:avLst>
              <a:gd name="adj1" fmla="val 27782"/>
              <a:gd name="adj2" fmla="val 72791"/>
            </a:avLst>
          </a:prstGeom>
          <a:solidFill>
            <a:srgbClr val="ffff00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堆填區為甚麼會飽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article-new_ds-photo_getty_article_241_201_dv118084_XS.jpg"/>
          <p:cNvPicPr/>
          <p:nvPr/>
        </p:nvPicPr>
        <p:blipFill>
          <a:blip r:embed="rId1"/>
          <a:stretch/>
        </p:blipFill>
        <p:spPr>
          <a:xfrm>
            <a:off x="4284720" y="1844640"/>
            <a:ext cx="4174920" cy="424836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E86F-905D-4E4E-8122-5A3F7E086F0A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832C-4EDF-428D-BDE1-D66E601A5E9F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D:\Temp\Temporary Internet Files\Content.IE5\44RMH5NI\MP90040695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Cloud Callout 15"/>
          <p:cNvSpPr/>
          <p:nvPr/>
        </p:nvSpPr>
        <p:spPr>
          <a:xfrm>
            <a:off x="324000" y="1341360"/>
            <a:ext cx="6840360" cy="2374920"/>
          </a:xfrm>
          <a:prstGeom prst="cloudCallout">
            <a:avLst>
              <a:gd name="adj1" fmla="val 52509"/>
              <a:gd name="adj2" fmla="val 90851"/>
            </a:avLst>
          </a:prstGeom>
          <a:solidFill>
            <a:srgbClr val="ffff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omic Sans MS"/>
              </a:rPr>
              <a:t>我還很年輕，就這樣便被遺棄在堆填區了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…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omic Sans MS"/>
              </a:rPr>
              <a:t>難道我的一生就此終結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內容版面配置區 5" descr="plastic2uuu.gif"/>
          <p:cNvPicPr/>
          <p:nvPr/>
        </p:nvPicPr>
        <p:blipFill>
          <a:blip r:embed="rId2"/>
          <a:srcRect l="0" t="2888" r="91253" b="13513"/>
          <a:stretch/>
        </p:blipFill>
        <p:spPr>
          <a:xfrm rot="2722200">
            <a:off x="6687360" y="4372560"/>
            <a:ext cx="8460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一：塑膠製品大召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170" name="Picture 5" descr="D:\Temp\Temporary Internet Files\Content.IE5\44RMH5NI\MC900365990[1].wmf"/>
          <p:cNvPicPr/>
          <p:nvPr/>
        </p:nvPicPr>
        <p:blipFill>
          <a:blip r:embed="rId1"/>
          <a:stretch/>
        </p:blipFill>
        <p:spPr>
          <a:xfrm>
            <a:off x="5076720" y="3357720"/>
            <a:ext cx="3095640" cy="18316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45AF-BCEE-4D16-B9F1-B39973FB575F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「膠樽仔」說故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1584360" cy="4838400"/>
          </a:xfrm>
          <a:prstGeom prst="rect">
            <a:avLst/>
          </a:prstGeom>
          <a:ln w="0">
            <a:noFill/>
          </a:ln>
        </p:spPr>
      </p:pic>
      <p:sp>
        <p:nvSpPr>
          <p:cNvPr id="176" name="圓角矩形圖說文字 5"/>
          <p:cNvSpPr/>
          <p:nvPr/>
        </p:nvSpPr>
        <p:spPr>
          <a:xfrm>
            <a:off x="2987640" y="1268280"/>
            <a:ext cx="5761080" cy="2952720"/>
          </a:xfrm>
          <a:prstGeom prst="wedgeRoundRectCallout">
            <a:avLst>
              <a:gd name="adj1" fmla="val -49898"/>
              <a:gd name="adj2" fmla="val 70546"/>
              <a:gd name="adj3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大家好，我是你們在超級市場最常見的膠樽，我的名字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70c0"/>
                </a:solidFill>
                <a:latin typeface="Comic Sans MS"/>
              </a:rPr>
              <a:t>「膠樽仔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AE70-27AB-4DDA-956D-629C5F441A0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pic>
        <p:nvPicPr>
          <p:cNvPr id="180" name="內容版面配置區 6" descr="plastic2.gif"/>
          <p:cNvPicPr/>
          <p:nvPr/>
        </p:nvPicPr>
        <p:blipFill>
          <a:blip r:embed="rId1"/>
          <a:stretch/>
        </p:blipFill>
        <p:spPr>
          <a:xfrm>
            <a:off x="826920" y="4292640"/>
            <a:ext cx="58579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6875640" y="1700280"/>
            <a:ext cx="1584000" cy="4838760"/>
          </a:xfrm>
          <a:prstGeom prst="rect">
            <a:avLst/>
          </a:prstGeom>
          <a:ln w="0">
            <a:noFill/>
          </a:ln>
        </p:spPr>
      </p:pic>
      <p:sp>
        <p:nvSpPr>
          <p:cNvPr id="182" name="圓角矩形圖說文字 4"/>
          <p:cNvSpPr/>
          <p:nvPr/>
        </p:nvSpPr>
        <p:spPr>
          <a:xfrm>
            <a:off x="611280" y="260280"/>
            <a:ext cx="5761080" cy="3456000"/>
          </a:xfrm>
          <a:prstGeom prst="wedgeRoundRectCallout">
            <a:avLst>
              <a:gd name="adj1" fmla="val 52967"/>
              <a:gd name="adj2" fmla="val 71347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我是用塑膠製造的。我們的家族很大，兄弟姊妹差不多遍佈超級市場的每一個角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很多顧客都喜歡把我們帶回家。小朋友，你知道原因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892A-0CA5-42BD-AECC-CADC2537314D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43F7-6F10-42F8-A4DC-C07605BB686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1"/>
          <p:cNvGrpSpPr/>
          <p:nvPr/>
        </p:nvGrpSpPr>
        <p:grpSpPr>
          <a:xfrm>
            <a:off x="5148360" y="4005360"/>
            <a:ext cx="3887640" cy="2808360"/>
            <a:chOff x="5148360" y="4005360"/>
            <a:chExt cx="3887640" cy="2808360"/>
          </a:xfrm>
        </p:grpSpPr>
        <p:pic>
          <p:nvPicPr>
            <p:cNvPr id="188" name="Picture 4" descr="Plastic-Shopping-Bags-Ban-in-LA.jpg"/>
            <p:cNvPicPr/>
            <p:nvPr/>
          </p:nvPicPr>
          <p:blipFill>
            <a:blip r:embed="rId1"/>
            <a:srcRect l="0" t="0" r="10048" b="0"/>
            <a:stretch/>
          </p:blipFill>
          <p:spPr>
            <a:xfrm>
              <a:off x="5148360" y="4005360"/>
              <a:ext cx="387360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19"/>
            <p:cNvSpPr/>
            <p:nvPr/>
          </p:nvSpPr>
          <p:spPr>
            <a:xfrm>
              <a:off x="8388360" y="644400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4"/>
          <p:cNvGrpSpPr/>
          <p:nvPr/>
        </p:nvGrpSpPr>
        <p:grpSpPr>
          <a:xfrm>
            <a:off x="142920" y="5013360"/>
            <a:ext cx="2413080" cy="1800360"/>
            <a:chOff x="142920" y="5013360"/>
            <a:chExt cx="2413080" cy="1800360"/>
          </a:xfrm>
        </p:grpSpPr>
        <p:pic>
          <p:nvPicPr>
            <p:cNvPr id="191" name="Picture 12" descr="imagesCAD5JHXO.jpg"/>
            <p:cNvPicPr/>
            <p:nvPr/>
          </p:nvPicPr>
          <p:blipFill>
            <a:blip r:embed="rId2"/>
            <a:stretch/>
          </p:blipFill>
          <p:spPr>
            <a:xfrm>
              <a:off x="142920" y="5013360"/>
              <a:ext cx="2413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28"/>
            <p:cNvSpPr/>
            <p:nvPr/>
          </p:nvSpPr>
          <p:spPr>
            <a:xfrm>
              <a:off x="1908360" y="644400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30"/>
          <p:cNvGrpSpPr/>
          <p:nvPr/>
        </p:nvGrpSpPr>
        <p:grpSpPr>
          <a:xfrm>
            <a:off x="2627280" y="5157720"/>
            <a:ext cx="2448000" cy="1584360"/>
            <a:chOff x="2627280" y="5157720"/>
            <a:chExt cx="2448000" cy="1584360"/>
          </a:xfrm>
        </p:grpSpPr>
        <p:pic>
          <p:nvPicPr>
            <p:cNvPr id="194" name="Picture 6" descr="plastic spoon and folk.jpg"/>
            <p:cNvPicPr/>
            <p:nvPr/>
          </p:nvPicPr>
          <p:blipFill>
            <a:blip r:embed="rId3"/>
            <a:srcRect l="0" t="12598" r="0" b="9284"/>
            <a:stretch/>
          </p:blipFill>
          <p:spPr>
            <a:xfrm>
              <a:off x="2627280" y="5157720"/>
              <a:ext cx="24480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23"/>
            <p:cNvSpPr/>
            <p:nvPr/>
          </p:nvSpPr>
          <p:spPr>
            <a:xfrm>
              <a:off x="3658320" y="6372360"/>
              <a:ext cx="455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9"/>
          <p:cNvGrpSpPr/>
          <p:nvPr/>
        </p:nvGrpSpPr>
        <p:grpSpPr>
          <a:xfrm>
            <a:off x="2843280" y="3284640"/>
            <a:ext cx="2952720" cy="1801800"/>
            <a:chOff x="2843280" y="3284640"/>
            <a:chExt cx="2952720" cy="1801800"/>
          </a:xfrm>
        </p:grpSpPr>
        <p:pic>
          <p:nvPicPr>
            <p:cNvPr id="197" name="Picture 8" descr="newspaper bag.jpg"/>
            <p:cNvPicPr/>
            <p:nvPr/>
          </p:nvPicPr>
          <p:blipFill>
            <a:blip r:embed="rId4"/>
            <a:srcRect l="0" t="15528" r="0" b="0"/>
            <a:stretch/>
          </p:blipFill>
          <p:spPr>
            <a:xfrm>
              <a:off x="2843280" y="3284640"/>
              <a:ext cx="295272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25"/>
            <p:cNvSpPr/>
            <p:nvPr/>
          </p:nvSpPr>
          <p:spPr>
            <a:xfrm>
              <a:off x="5148360" y="471492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1"/>
          <p:cNvGrpSpPr/>
          <p:nvPr/>
        </p:nvGrpSpPr>
        <p:grpSpPr>
          <a:xfrm>
            <a:off x="3564000" y="1268280"/>
            <a:ext cx="3095640" cy="1944720"/>
            <a:chOff x="3564000" y="1268280"/>
            <a:chExt cx="3095640" cy="1944720"/>
          </a:xfrm>
        </p:grpSpPr>
        <p:pic>
          <p:nvPicPr>
            <p:cNvPr id="200" name="Picture 10" descr="plastic-bottles-photo.jpg"/>
            <p:cNvPicPr/>
            <p:nvPr/>
          </p:nvPicPr>
          <p:blipFill>
            <a:blip r:embed="rId5"/>
            <a:stretch/>
          </p:blipFill>
          <p:spPr>
            <a:xfrm>
              <a:off x="3564000" y="1268280"/>
              <a:ext cx="3095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24"/>
            <p:cNvSpPr/>
            <p:nvPr/>
          </p:nvSpPr>
          <p:spPr>
            <a:xfrm>
              <a:off x="6012000" y="126828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2"/>
          <p:cNvGrpSpPr/>
          <p:nvPr/>
        </p:nvGrpSpPr>
        <p:grpSpPr>
          <a:xfrm>
            <a:off x="395280" y="1125360"/>
            <a:ext cx="3097080" cy="2087640"/>
            <a:chOff x="395280" y="1125360"/>
            <a:chExt cx="3097080" cy="2087640"/>
          </a:xfrm>
        </p:grpSpPr>
        <p:pic>
          <p:nvPicPr>
            <p:cNvPr id="203" name="Picture 5" descr="untitled - bakery.bmp"/>
            <p:cNvPicPr/>
            <p:nvPr/>
          </p:nvPicPr>
          <p:blipFill>
            <a:blip r:embed="rId6"/>
            <a:stretch/>
          </p:blipFill>
          <p:spPr>
            <a:xfrm>
              <a:off x="395280" y="1153080"/>
              <a:ext cx="3097080" cy="205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26"/>
            <p:cNvSpPr/>
            <p:nvPr/>
          </p:nvSpPr>
          <p:spPr>
            <a:xfrm>
              <a:off x="2844720" y="112536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33"/>
          <p:cNvGrpSpPr/>
          <p:nvPr/>
        </p:nvGrpSpPr>
        <p:grpSpPr>
          <a:xfrm>
            <a:off x="395280" y="3284640"/>
            <a:ext cx="2376360" cy="1663920"/>
            <a:chOff x="395280" y="3284640"/>
            <a:chExt cx="2376360" cy="1663920"/>
          </a:xfrm>
        </p:grpSpPr>
        <p:pic>
          <p:nvPicPr>
            <p:cNvPr id="206" name="Picture 13" descr="1248118969_0.jpg"/>
            <p:cNvPicPr/>
            <p:nvPr/>
          </p:nvPicPr>
          <p:blipFill>
            <a:blip r:embed="rId7"/>
            <a:srcRect l="0" t="3424" r="0" b="0"/>
            <a:stretch/>
          </p:blipFill>
          <p:spPr>
            <a:xfrm>
              <a:off x="405000" y="3284640"/>
              <a:ext cx="236664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27"/>
            <p:cNvSpPr/>
            <p:nvPr/>
          </p:nvSpPr>
          <p:spPr>
            <a:xfrm>
              <a:off x="395280" y="458028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2"/>
          <p:cNvGrpSpPr/>
          <p:nvPr/>
        </p:nvGrpSpPr>
        <p:grpSpPr>
          <a:xfrm>
            <a:off x="6804000" y="115920"/>
            <a:ext cx="1873440" cy="3817800"/>
            <a:chOff x="6804000" y="115920"/>
            <a:chExt cx="1873440" cy="3817800"/>
          </a:xfrm>
        </p:grpSpPr>
        <p:pic>
          <p:nvPicPr>
            <p:cNvPr id="209" name="Picture 11" descr="0718-00176-099b6ONTV.jpg"/>
            <p:cNvPicPr/>
            <p:nvPr/>
          </p:nvPicPr>
          <p:blipFill>
            <a:blip r:embed="rId8"/>
            <a:srcRect l="36589" t="0" r="0" b="19850"/>
            <a:stretch/>
          </p:blipFill>
          <p:spPr>
            <a:xfrm>
              <a:off x="6804000" y="115920"/>
              <a:ext cx="187344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20"/>
            <p:cNvSpPr/>
            <p:nvPr/>
          </p:nvSpPr>
          <p:spPr>
            <a:xfrm>
              <a:off x="8028000" y="356400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6553440" cy="100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人們為何使用塑膠？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Explosion 1 16"/>
          <p:cNvSpPr/>
          <p:nvPr/>
        </p:nvSpPr>
        <p:spPr>
          <a:xfrm rot="291000">
            <a:off x="4359240" y="2577960"/>
            <a:ext cx="3816360" cy="1941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消費習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xplosion 1 17"/>
          <p:cNvSpPr/>
          <p:nvPr/>
        </p:nvSpPr>
        <p:spPr>
          <a:xfrm rot="21247800">
            <a:off x="1558800" y="4241880"/>
            <a:ext cx="3306960" cy="17892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即棄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xplosion 2 18"/>
          <p:cNvSpPr/>
          <p:nvPr/>
        </p:nvSpPr>
        <p:spPr>
          <a:xfrm>
            <a:off x="5759280" y="4365720"/>
            <a:ext cx="3384720" cy="16556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貪方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xplosion 1 15"/>
          <p:cNvSpPr/>
          <p:nvPr/>
        </p:nvSpPr>
        <p:spPr>
          <a:xfrm rot="21248400">
            <a:off x="404280" y="2177640"/>
            <a:ext cx="3816360" cy="18003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過度包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二：為甚麼要送我到堆填區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218" name="Picture 2" descr="D:\Temp\Temporary Internet Files\Content.IE5\Q1PSUET3\MM900282747[1].gif"/>
          <p:cNvPicPr/>
          <p:nvPr/>
        </p:nvPicPr>
        <p:blipFill>
          <a:blip r:embed="rId1"/>
          <a:stretch/>
        </p:blipFill>
        <p:spPr>
          <a:xfrm>
            <a:off x="3995640" y="299736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03B7-DCA9-45FD-BADE-146FA4420905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1800000" cy="5497560"/>
          </a:xfrm>
          <a:prstGeom prst="rect">
            <a:avLst/>
          </a:prstGeom>
          <a:ln w="0">
            <a:noFill/>
          </a:ln>
        </p:spPr>
      </p:pic>
      <p:sp>
        <p:nvSpPr>
          <p:cNvPr id="224" name="圓角矩形圖說文字 4"/>
          <p:cNvSpPr/>
          <p:nvPr/>
        </p:nvSpPr>
        <p:spPr>
          <a:xfrm>
            <a:off x="3059280" y="1413000"/>
            <a:ext cx="5545080" cy="3887640"/>
          </a:xfrm>
          <a:prstGeom prst="wedgeRoundRectCallout">
            <a:avLst>
              <a:gd name="adj1" fmla="val -61314"/>
              <a:gd name="adj2" fmla="val -35300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大家好，還記得我「膠樽仔」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自從我和一眾兄弟姊妹被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Comic Sans MS"/>
              </a:rPr>
              <a:t>小明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從超級市場買回家後，我便以為從此有安穩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怎料，不足一個星期，我們便被丟到垃圾桶，然後被送到堆填區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</a:rPr>
              <a:t>為甚麼要送我到堆填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E1C4-DC7E-4E7C-AF20-32E4810B8705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「為甚麼要送我到堆填區？」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539640" y="1341360"/>
            <a:ext cx="3745080" cy="2374920"/>
          </a:xfrm>
          <a:prstGeom prst="wedgeRoundRectCallout">
            <a:avLst>
              <a:gd name="adj1" fmla="val 22324"/>
              <a:gd name="adj2" fmla="val 66124"/>
              <a:gd name="adj3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回收桶在香港已經出現很久了，你知道塑膠廢物的回收率有多少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4643280" y="1413000"/>
            <a:ext cx="4176720" cy="2520720"/>
          </a:xfrm>
          <a:prstGeom prst="wedgeRoundRectCallout">
            <a:avLst>
              <a:gd name="adj1" fmla="val -24796"/>
              <a:gd name="adj2" fmla="val 6075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我也不知道，小朋友，你們可以根據新聞資料，告訴我塑膠廢物回收的情況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圖片 6" descr=""/>
          <p:cNvPicPr/>
          <p:nvPr/>
        </p:nvPicPr>
        <p:blipFill>
          <a:blip r:embed="rId1"/>
          <a:stretch/>
        </p:blipFill>
        <p:spPr>
          <a:xfrm>
            <a:off x="2195640" y="4265640"/>
            <a:ext cx="4248000" cy="2592360"/>
          </a:xfrm>
          <a:prstGeom prst="rect">
            <a:avLst/>
          </a:prstGeom>
          <a:ln w="0">
            <a:noFill/>
          </a:ln>
        </p:spPr>
      </p:pic>
      <p:sp>
        <p:nvSpPr>
          <p:cNvPr id="2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80DF-1773-45E4-867B-C5189E5072FD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7948-43F6-40BC-9301-BEF9444BDBDB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itle 1"/>
          <p:cNvGrpSpPr/>
          <p:nvPr/>
        </p:nvGrpSpPr>
        <p:grpSpPr>
          <a:xfrm>
            <a:off x="407880" y="55440"/>
            <a:ext cx="3067200" cy="865440"/>
            <a:chOff x="407880" y="55440"/>
            <a:chExt cx="3067200" cy="865440"/>
          </a:xfrm>
        </p:grpSpPr>
        <p:pic>
          <p:nvPicPr>
            <p:cNvPr id="236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55440"/>
              <a:ext cx="306720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68360" y="189000"/>
              <a:ext cx="295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500" spc="-1" strike="noStrike">
                  <a:solidFill>
                    <a:srgbClr val="000000"/>
                  </a:solidFill>
                  <a:latin typeface="Comic Sans MS"/>
                </a:rPr>
                <a:t>齊來讀報紙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Horizontal Scroll 3"/>
          <p:cNvSpPr/>
          <p:nvPr/>
        </p:nvSpPr>
        <p:spPr>
          <a:xfrm rot="16200000">
            <a:off x="1745280" y="-693000"/>
            <a:ext cx="5616720" cy="8964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佐敦整條街無環保回收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街頭垃圾桶及回收桶比例嚴重失衡，平均每二十個垃圾桶才有一個回收桶，須行足半個運動場路程才見回收桶。在佐敦一處，六百八十米街道一個回收桶也沒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綠領行動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亦指出，塑膠廢物回收率極低，估算港府每日將總值逾六十萬元的可回收塑膠掉落堆填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團體在多處進行調查，發現約五成人會將回收物（如紙巾、膠、紙及金屬等）直扔垃圾桶，卻甚少伸手拉開回收桶。環保人士指，回收桶的蓋沒有人清洗，十分骯髒，令人不想使用回收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另外，市民對回收塑膠意識不足，誤以為只得膠樽可回收，將多數可回收塑膠直扔垃圾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 flipV="1" rot="10800000">
            <a:off x="1619280" y="5985720"/>
            <a:ext cx="71294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料來源：太陽報（</a:t>
            </a:r>
            <a:r>
              <a:rPr b="0" lang="en-US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12</a:t>
            </a: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</a:t>
            </a: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</a:t>
            </a: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）（文章經過修改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ttp://the-sun.on.cc/cnt/news/20120502/00407_023.html?pubdate=201205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D:\Temp\Temporary Internet Files\Content.IE5\HDXSWTAK\MC900442030[1].wmf"/>
          <p:cNvPicPr/>
          <p:nvPr/>
        </p:nvPicPr>
        <p:blipFill>
          <a:blip r:embed="rId3"/>
          <a:stretch/>
        </p:blipFill>
        <p:spPr>
          <a:xfrm>
            <a:off x="4932360" y="44280"/>
            <a:ext cx="13460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8:42:01Z</dcterms:created>
  <dc:creator>Jennifer Chan</dc:creator>
  <dc:description/>
  <dc:language>en-US</dc:language>
  <cp:lastModifiedBy>HKIEd</cp:lastModifiedBy>
  <dcterms:modified xsi:type="dcterms:W3CDTF">2013-04-02T07:07:11Z</dcterms:modified>
  <cp:revision>133</cp:revision>
  <dc:subject/>
  <dc:title>課節二：為什麼要送我到堆填區？ </dc:title>
</cp:coreProperties>
</file>