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7.gif" ContentType="image/gif"/>
  <Override PartName="/ppt/media/image12.png" ContentType="image/png"/>
  <Override PartName="/ppt/media/image2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E6A4-9A24-4BE8-91D1-1E40887683A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cyberschool.oxfam.org.hk/articles.php?id=98&amp;page=2" TargetMode="External"/><Relationship Id="rId3" Type="http://schemas.openxmlformats.org/officeDocument/2006/relationships/hyperlink" Target="http://www.youtube.com/watch?v=0LXk1wrPAI4" TargetMode="External"/><Relationship Id="rId4" Type="http://schemas.openxmlformats.org/officeDocument/2006/relationships/hyperlink" Target="http://www.youtube.com/watch?v=6hOc370qVME" TargetMode="External"/><Relationship Id="rId5" Type="http://schemas.openxmlformats.org/officeDocument/2006/relationships/hyperlink" Target="http://www.weather.gov.hk/climate_change/climate_change_c.htm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legco.gov.hk/yr05-06/chinese/sec/library/0506in37-c.pdf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hkkids.com/green/green-topic01-story01.htm" TargetMode="External"/><Relationship Id="rId3" Type="http://schemas.openxmlformats.org/officeDocument/2006/relationships/hyperlink" Target="http://www.cfs.gov.hk/tc_chi/programme/programme_rafs/programme_rafs_fc_02_11.html" TargetMode="External"/><Relationship Id="rId4" Type="http://schemas.openxmlformats.org/officeDocument/2006/relationships/hyperlink" Target="http://www.hkkids.com/green/green-topic01-story01.htm" TargetMode="External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k.epochtimes.com/11/8/11/141384.ht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FE25-9E25-4E80-AB23-4EFC88B0827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493B-4DAB-4E8D-847D-895F1EE70C3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0748-8FE0-4789-A0DE-955B765E613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41CB-C551-45AF-8EA4-9E594A05FBB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石油耗盡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能源短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是經石油提煉出來的副產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一噸膠袋大約需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桶石油的能源製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石油是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不可再生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化石原料，在數十年內便會耗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6374-F914-40EA-A4A7-EF927C42E08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製造塑膠的過程中產生溫室氣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甚麼是溫室氣體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氣層中主要的溫室氣體可有二氧化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甲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一氧化二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氯氟碳化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FCs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臭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空氣中的溫室氣體會阻礙地球將熱量射回太空。溫室氣體會吸收部份地球釋放的紅外線，然後再釋放紅外線，將部份熱量射回太空，但亦有部份熱量射回地球，形成所謂溫室效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溫室氣體濃度的增加會減少紅外線輻射放射到太空外，這令全球性的地球表面及大氣低層變暖（溫室氣體好像一張毯子般，把太陽的熱能吸收之餘，亦會把熱能困於地球表面，令地面愈來愈熱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環境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全球增溫／極端氣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專家指出，如全球二氧化碳排放量在未來維持不變，到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全球平均氣溫將上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3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到了本世紀末，氣溫更會上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6℃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可能沒有冬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非洲大陸的氣溫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前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天氣更有兩極化的趨勢，其中東部、西部、北部及南部部分地區的乾旱及半乾旱地帶，均日見乾旱；但非洲赤度及其餘的南部地區卻愈來愈濕，暴雨頻繁，易有水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水位上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北極地區氣候上升，在過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阿拉斯加與西伯利亞氣溫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3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引致融雪提早以及冰川融化，水位因而上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香港的海平面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生態系統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研究指出，全球增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已足以令世界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陸地生物面臨絕種，整個生態系統受影響，人類亦會受到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物遷移的種類及大火災的風險增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全球面臨絕種危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人類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天災頻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氣候變化令天災頻仍，當中又以脆弱的貧窮人（如非洲的馬拉維、布隆迪和肯尼亞）特別受災，他們都是全球最貧窮的國家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水位上升令低窪地區氾濫更頻密，因海平面升髙了，颱風引起水浸的機會增加，因為颱風時會有風暴潮，水位比平時升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米，沿岸有些低窪地方便會出現水浸，這威脅人們的生計與人身安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水位上升亦令在太平洋的一些細小島國面臨國家快將消失的命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糧食短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全球增溫令水循環發生變化，影響了不少地區的降雨模式，現時全球三分之一人口面對著中度至高度的水短缺情況，影響農業發展與生計，健康與生命亦備受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影響健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患上營養失調、腹瀉、心臟、呼吸病及傳染性疾病的風險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由熱浪、水災及乾旱引致的疾病及死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樂施會互動教學中心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yberschool.oxfam.org.hk/articles.php?id=98&amp;page=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天文台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熱爆地球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0LXk1wrPAI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6hOc370qVM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天文台（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weather.gov.hk/climate_change/climate_change_c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5646-93A7-44BC-832E-BD2F696450A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丟棄的膠袋以堆填的方式處理，多年都不能分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</a:rPr>
              <a:t>塑膠物品需要數百年時間才能消失，長期佔用堆填區位置，加速堆填區飽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土地污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堆填區會在廢物降解過程中產生堆填氣體和滲濾污水。堆填氣體既帶有臭味，又可能使人窒息，而且屬易燃氣體，容易引起爆炸，而滲濾污水如控制不當，則為高度污染物。滲濾污水為堆填區內污水從廢物堆中滲出時產生的液體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egco.gov.hk/yr05-06/chinese/sec/library/0506in37-c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933E-5279-44CD-A224-86B1D094AEB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焚化處理會釋放空氣污染物，例如最為人所熟悉的二噁英（</a:t>
            </a:r>
            <a:r>
              <a:rPr b="1" lang="tr-TR" sz="1200" spc="-1" strike="noStrike">
                <a:solidFill>
                  <a:srgbClr val="000000"/>
                </a:solidFill>
                <a:latin typeface="Calibri"/>
              </a:rPr>
              <a:t>Dioxin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二噁英是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ioxin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是一種持久性有機污染物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Persistent Organic Pollutant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也是世上毒性最強的物質之一。國際癌症研究組織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International Agency for Research on Cancer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已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把二噁英列為致癌物質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麥苗教具有限公司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kkids.com/green/green-topic01-story01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二噁英有何害處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會隨著焚化廢物而產生的濃煙、灰燼、輕灰及污水傳入環境，透過氣流、水流散佈於空氣、水、土壤及污泥沉澱物之中，影響牲畜和魚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這種有毒物質，不易被分解，一旦產生，往往持久地存在於環境中，歷久不散，並易於在食物鏈內聚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百分之九十的二噁英是經由食物例如肉類、乳品、雞蛋及鮮魚等進入人體。吸收少量的二噁英，足以減弱我們的免疫系統，令甲狀腺和肝臟功能失調，影響生殖系統及和干擾荷爾蒙分泌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當二噁英積聚在女性的乳房內，可以經母乳傳給嬰孩，做成嬰兒先天性缺陷，威脅嬰孩的健康。大量的二噁英積聚在人體，會使兒童發育遲緩、男性生殖荷爾蒙減少、糖尿病以致癌症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人類如意外地攝入大量二噁英，可引致氯痤瘡（一種皮膚病 ）、皮膚出疹及變色等皮膚病和體毛過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特別行政區政府食物安全中心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fs.gov.hk/tc_chi/programme/programme_rafs/programme_rafs_fc_02_11.html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麥苗教具有限公司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hkkids.com/green/green-topic01-story01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D7E-1D0E-4725-909F-4B1C5224FC2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動物吃下膠袋／被膠袋膠圈勒住，影響生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逾九成塑膠不能被生物降解，可漂浮數十年，其毒性化合物如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等會釋入海洋，魚類、海龜、海鳥等會誤以為膠袋等垃圾是水母或烏賊而食用，塑膠毒性因而進入生物體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中的化合物，如壬基酚、鄰苯二甲酸鹽及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可影響生物的內分泌系統，從而影響荷爾蒙。落入海洋的塑膠，更會吸收「持久、生物累積和有毒物質」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T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對生物帶來慢性問題，如擾亂內分泌、影響生育、誘發基因突變，也會增加患癌的機會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研究從所蒐集的魚類中，發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％的胃裏含有塑粒垃圾，估計在北太平洋的中層海洋魚群，每年吃下的塑料，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萬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4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萬噸。研究人員亦在一條鯨魚體內發現多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磅塑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獅被粉紅色風向袋包住，全身僅露出頭部，鰭狀肢無法如常伸展，終在茫茫大海中淹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少海豹更遭包裝貨物用的膠帶和膠圈勒住頸部，研究人員估計牠們或於年幼時已被勒住，但隨着牠們慢慢長大，膠帶把牠們束得愈來愈緊，慢慢把牠們勒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龜和海鳥等動物亦受到海洋垃圾的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動物將毒素帶入食物鏈，人類自食其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食膠魚」終或被人類捕獲進食，濫用塑膠的人類，害人終害己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早前有研究就發現本港市面出售的淡水魚和鹹水魚含有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雖然含量輕微，卻已經響起警號。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海生昆蟲（海黽）數量異常激增，危害海洋生態平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研究員發現一個令人憂心的現象：塑膠垃圾愈多的海域，肉食昆蟲海黽（粵音「猛」）的數量亦愈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黽是生活於池塘、俗稱「水蜘蛛」或「水較剪」的水黽的近親。海黽是肉食性昆蟲，取食海中浮游生物、死水母、魚卵和孵出不久的小魚，惟不會潛入海裏捕食。海黽成蟲體長約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毫米，卻有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厘米的長足。雌性較雄性稍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科學家警告，若海洋塑粒密度持續擴大，海黽數量將繼續增加，代價可能就是浮游生物或魚卵大減。海黽大量繁殖過度取食，將使「海洋生態系統出現營養不足，那時候很多物種將現饑荒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和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人類垃圾變兇器 謀殺海洋生物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東方日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肉食性海黽 海面產卵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垃圾漩渦產「膠魚」捕食恐中毒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東方日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1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港聞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ff0000"/>
                </a:solidFill>
                <a:latin typeface="Calibri"/>
              </a:rPr>
              <a:t>港耗膠量大 海岸垃圾之冠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大紀元時報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日，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k.epochtimes.com/11/8/11/141384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塑膠垃圾掀太平洋蟲禍 膠粒成產卵溫牀 過量繁殖危害生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tanglement of Steller Sea Lions in marine debris: Identify causes and finding solutions (video)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ska Department of Fish and Game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adfg.alaska.gov/index.cfm?adfg=stellersealion.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eeturtles.org/1128/ocean-plas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ana Islands Nature Alliance-A Pacific environmental organization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minapacific.org/sec.asp?secID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stic bag makers sue ChicoBa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14 June 2011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oceana.org/en/blog/2011/06/plastic-bag-makers-sue-chicob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urtles, http://www.seeturtles.org/1128/ocean-plas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E621-431F-4BDE-B8B8-F9A5D1430FA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67DB-B2B3-4FA7-845D-8F99658A57D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讓學生反思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誰導致上述災禍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自己是不是其中一分子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2DAB-52C8-4C0B-B4C4-A3F0D132B1D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F24B4-2834-40B4-80A7-0396B2D3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E16796-B748-40B3-B517-36C5C316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45D60-DDE2-4D37-80DC-B2971350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8F70E-E347-4042-AA10-661AA829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29A0F-B5D1-4C1C-9239-1073A450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3C65A-FCFB-48C7-A58D-7E888C0B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FC4A4-FCD8-424F-B44D-B172F5DD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8110E-EF4F-458F-8D65-17BE150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57A93-C068-4EE0-A494-8151A73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15E95-D2D5-4CFD-BEFA-AD4EDFE1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BC76F-1F68-4548-808F-77451BDD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2D647-E181-4B36-920F-5855B760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A4D85-CFB7-499C-861F-8ACE1B7E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E903C-4597-4F36-9772-6259B104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99DBF-96FE-4525-AFC0-8DEDAC96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9927A-0CBA-44EE-8243-9B0FB11B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B723C-D6BE-4BE5-AB7C-E5CB018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8510D-0A69-4C1F-B3D6-20FBE39B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434D7-095F-44B0-B3A4-CE5F0F2F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FF13D-0446-43DB-878B-56673B2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CC239-DEA1-4159-961A-A746FFE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D5C53-81AE-4C2C-A4FC-4768232B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3C9A7-2EE9-4388-84EC-F696EB6C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E1584-A02A-4620-9618-D37B10F8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8CC-28C2-4A67-8D14-E9A665C37EBC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AC76-E3A6-4FE0-908D-629B11F1499F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6863-C127-45F7-BA6C-EA98144676CC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E005-43FD-4ECA-B17D-DEB34AA0E556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5444-8815-4B44-812F-5EE9ABCFCA4B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6C04-C4C3-434D-9534-00E8B5923B8B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oman.bloguez.com/woman/2729806/Plastic-Bag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www.greensense.org.hk/plasticbag/subpage1b.php" TargetMode="External"/><Relationship Id="rId9" Type="http://schemas.openxmlformats.org/officeDocument/2006/relationships/hyperlink" Target="http://www.zazzle.com/wagner+bags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ww.p-wholesale.com/subcat/13/573/bottle-p3.html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www.greensense.org.hk/plasticbag/subpage1b.php" TargetMode="External"/><Relationship Id="rId9" Type="http://schemas.openxmlformats.org/officeDocument/2006/relationships/hyperlink" Target="http://www.mylespaul.com/forums/backstage/66897-water-moon-confirmed-nasa-2.html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it.123rf.com/photo_8102604_colorato-recycle-bin-isolato.html" TargetMode="External"/><Relationship Id="rId5" Type="http://schemas.openxmlformats.org/officeDocument/2006/relationships/hyperlink" Target="http://www.greensense.org.hk/plasticbag/subpage1b.php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mammothcleaningsupplies.co.uk/refuse-bins-sacks/dustbins/black-dust-bin-80-litre-p1348.htm" TargetMode="External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8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三：我是預言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DB0-9926-4378-ABAF-6FF30657DAE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知道塑膠對環境的影響後，以後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Comic Sans MS"/>
                <a:ea typeface="新細明體"/>
              </a:rPr>
              <a:t>我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購物時，我會選擇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圖片 4" descr="Plastic-Bags3.jpg"/>
          <p:cNvPicPr/>
          <p:nvPr/>
        </p:nvPicPr>
        <p:blipFill>
          <a:blip r:embed="rId1"/>
          <a:srcRect l="0" t="14289" r="0" b="16325"/>
          <a:stretch/>
        </p:blipFill>
        <p:spPr>
          <a:xfrm>
            <a:off x="1211400" y="2492280"/>
            <a:ext cx="3216240" cy="2232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5"/>
          <p:cNvSpPr/>
          <p:nvPr/>
        </p:nvSpPr>
        <p:spPr>
          <a:xfrm>
            <a:off x="0" y="6611760"/>
            <a:ext cx="442764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oman.bloguez.com/woman/2729806/Plastic-B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"/>
          <p:cNvSpPr/>
          <p:nvPr/>
        </p:nvSpPr>
        <p:spPr>
          <a:xfrm>
            <a:off x="5076720" y="6611760"/>
            <a:ext cx="406728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http://www.zazzle.com/wagner+b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圖片 7" descr="recycle_environmental_bag-.jpg"/>
          <p:cNvPicPr/>
          <p:nvPr/>
        </p:nvPicPr>
        <p:blipFill>
          <a:blip r:embed="rId10"/>
          <a:stretch/>
        </p:blipFill>
        <p:spPr>
          <a:xfrm>
            <a:off x="507672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66" name="內容版面配置區 2"/>
          <p:cNvSpPr/>
          <p:nvPr/>
        </p:nvSpPr>
        <p:spPr>
          <a:xfrm>
            <a:off x="611280" y="4797360"/>
            <a:ext cx="82296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使用膠袋　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自備購物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8"/>
          <p:cNvSpPr/>
          <p:nvPr/>
        </p:nvSpPr>
        <p:spPr>
          <a:xfrm>
            <a:off x="6553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F7A5-C4B3-4542-8516-143436027EF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ACD4-EABC-4F2E-8686-3154F4044F9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圖片 6" descr="thumbnail.jpg"/>
          <p:cNvPicPr/>
          <p:nvPr/>
        </p:nvPicPr>
        <p:blipFill>
          <a:blip r:embed="rId1"/>
          <a:srcRect l="5174" t="5568" r="15501" b="0"/>
          <a:stretch/>
        </p:blipFill>
        <p:spPr>
          <a:xfrm>
            <a:off x="5599080" y="787320"/>
            <a:ext cx="2212920" cy="4226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42560" y="486900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自備水樽　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  購買膠樽裝飲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0" y="6611760"/>
            <a:ext cx="457200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ww.p-wholesale.com/subcat/13/573/bottle-p3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5076720" y="6458040"/>
            <a:ext cx="406728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http://www.mylespaul.com/forums/backstage/66897-water-moon-confirmed-nasa-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圖片 5" descr="water-bottle-917.jpg"/>
          <p:cNvPicPr/>
          <p:nvPr/>
        </p:nvPicPr>
        <p:blipFill>
          <a:blip r:embed="rId10"/>
          <a:stretch/>
        </p:blipFill>
        <p:spPr>
          <a:xfrm>
            <a:off x="2068560" y="1427040"/>
            <a:ext cx="1495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98B6-AEFD-49A8-8268-93411D2A0CE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回收塑膠廢物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 丟棄塑膠廢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矩形 3"/>
          <p:cNvSpPr/>
          <p:nvPr/>
        </p:nvSpPr>
        <p:spPr>
          <a:xfrm>
            <a:off x="0" y="6458040"/>
            <a:ext cx="435600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it.123rf.com/photo_8102604_colorato-recycle-bin-isolato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4859280" y="6458040"/>
            <a:ext cx="428472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http://mammothcleaningsupplies.co.uk/refuse-bins-sacks/dustbins/black-dust-bin-80-litre-p1348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圖片 5" descr="bin.jpg"/>
          <p:cNvPicPr/>
          <p:nvPr/>
        </p:nvPicPr>
        <p:blipFill>
          <a:blip r:embed="rId9"/>
          <a:srcRect l="20793" t="6630" r="18625" b="6748"/>
          <a:stretch/>
        </p:blipFill>
        <p:spPr>
          <a:xfrm>
            <a:off x="5003640" y="1413000"/>
            <a:ext cx="3211560" cy="3240000"/>
          </a:xfrm>
          <a:prstGeom prst="rect">
            <a:avLst/>
          </a:prstGeom>
          <a:ln w="0">
            <a:noFill/>
          </a:ln>
        </p:spPr>
      </p:pic>
      <p:pic>
        <p:nvPicPr>
          <p:cNvPr id="284" name="圖片 6" descr="recycle-bin-isolato.jpg"/>
          <p:cNvPicPr/>
          <p:nvPr/>
        </p:nvPicPr>
        <p:blipFill>
          <a:blip r:embed="rId10"/>
          <a:srcRect l="4013" t="25200" r="3735" b="3400"/>
          <a:stretch/>
        </p:blipFill>
        <p:spPr>
          <a:xfrm>
            <a:off x="755640" y="1700280"/>
            <a:ext cx="38163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延伸問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圓角矩形圖說文字 4"/>
          <p:cNvSpPr/>
          <p:nvPr/>
        </p:nvSpPr>
        <p:spPr>
          <a:xfrm>
            <a:off x="3132000" y="1341360"/>
            <a:ext cx="4969080" cy="3167280"/>
          </a:xfrm>
          <a:prstGeom prst="wedgeRoundRectCallout">
            <a:avLst>
              <a:gd name="adj1" fmla="val -50527"/>
              <a:gd name="adj2" fmla="val 6577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很高興大家都選擇將我回收呀！但小朋友，你們有正確的回收知識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圖片 10" descr="plastic2.gif"/>
          <p:cNvPicPr/>
          <p:nvPr/>
        </p:nvPicPr>
        <p:blipFill>
          <a:blip r:embed="rId1"/>
          <a:srcRect l="0" t="5876" r="91981" b="11897"/>
          <a:stretch/>
        </p:blipFill>
        <p:spPr>
          <a:xfrm>
            <a:off x="1187280" y="1773360"/>
            <a:ext cx="1635120" cy="5084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CCED-2EB0-4BA7-BD19-1FDD7655514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21B1-967A-4FFD-B0D4-4151F872547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D:\Temp\Temporary Internet Files\Content.IE5\44RMH5NI\MP90040695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圓角矩形圖說文字 4"/>
          <p:cNvSpPr/>
          <p:nvPr/>
        </p:nvSpPr>
        <p:spPr>
          <a:xfrm>
            <a:off x="684360" y="287280"/>
            <a:ext cx="4895640" cy="3816360"/>
          </a:xfrm>
          <a:prstGeom prst="wedgeRoundRectCallout">
            <a:avLst>
              <a:gd name="adj1" fmla="val 79351"/>
              <a:gd name="adj2" fmla="val 30694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大家還記得我「膠樽仔」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當我被送到堆填區後，認識了很多塑膠朋友，但他們都很傷心，因為他們都說自己對環境有很大的影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圖片 5" descr="plastic2uuu.gif"/>
          <p:cNvPicPr/>
          <p:nvPr/>
        </p:nvPicPr>
        <p:blipFill>
          <a:blip r:embed="rId2"/>
          <a:srcRect l="0" t="0" r="49486" b="0"/>
          <a:stretch/>
        </p:blipFill>
        <p:spPr>
          <a:xfrm rot="20932800">
            <a:off x="1750680" y="3813120"/>
            <a:ext cx="4125960" cy="2479680"/>
          </a:xfrm>
          <a:prstGeom prst="rect">
            <a:avLst/>
          </a:prstGeom>
          <a:ln w="0">
            <a:noFill/>
          </a:ln>
        </p:spPr>
      </p:pic>
      <p:pic>
        <p:nvPicPr>
          <p:cNvPr id="174" name="內容版面配置區 5" descr="plastic2uuu.gif"/>
          <p:cNvPicPr/>
          <p:nvPr/>
        </p:nvPicPr>
        <p:blipFill>
          <a:blip r:embed="rId3"/>
          <a:srcRect l="0" t="2888" r="91253" b="13513"/>
          <a:stretch/>
        </p:blipFill>
        <p:spPr>
          <a:xfrm rot="2083800">
            <a:off x="7114680" y="2381400"/>
            <a:ext cx="846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grpSp>
        <p:nvGrpSpPr>
          <p:cNvPr id="177" name="群組 23"/>
          <p:cNvGrpSpPr/>
          <p:nvPr/>
        </p:nvGrpSpPr>
        <p:grpSpPr>
          <a:xfrm>
            <a:off x="250920" y="3429000"/>
            <a:ext cx="8599320" cy="2840040"/>
            <a:chOff x="250920" y="3429000"/>
            <a:chExt cx="8599320" cy="2840040"/>
          </a:xfrm>
        </p:grpSpPr>
        <p:pic>
          <p:nvPicPr>
            <p:cNvPr id="178" name="Picture 3" descr=""/>
            <p:cNvPicPr/>
            <p:nvPr/>
          </p:nvPicPr>
          <p:blipFill>
            <a:blip r:embed="rId1"/>
            <a:stretch/>
          </p:blipFill>
          <p:spPr>
            <a:xfrm>
              <a:off x="6660720" y="3429000"/>
              <a:ext cx="218952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文字方塊 8"/>
            <p:cNvSpPr/>
            <p:nvPr/>
          </p:nvSpPr>
          <p:spPr>
            <a:xfrm>
              <a:off x="5652360" y="3501000"/>
              <a:ext cx="504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Comic Sans MS"/>
                </a:rPr>
                <a:t>=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圖片 9" descr="石油.gif"/>
            <p:cNvPicPr/>
            <p:nvPr/>
          </p:nvPicPr>
          <p:blipFill>
            <a:blip r:embed="rId2"/>
            <a:stretch/>
          </p:blipFill>
          <p:spPr>
            <a:xfrm>
              <a:off x="75492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圖片 10" descr="石油.gif"/>
            <p:cNvPicPr/>
            <p:nvPr/>
          </p:nvPicPr>
          <p:blipFill>
            <a:blip r:embed="rId3"/>
            <a:stretch/>
          </p:blipFill>
          <p:spPr>
            <a:xfrm>
              <a:off x="169128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圖片 11" descr="石油.gif"/>
            <p:cNvPicPr/>
            <p:nvPr/>
          </p:nvPicPr>
          <p:blipFill>
            <a:blip r:embed="rId4"/>
            <a:stretch/>
          </p:blipFill>
          <p:spPr>
            <a:xfrm>
              <a:off x="262728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圖片 12" descr="石油.gif"/>
            <p:cNvPicPr/>
            <p:nvPr/>
          </p:nvPicPr>
          <p:blipFill>
            <a:blip r:embed="rId5"/>
            <a:stretch/>
          </p:blipFill>
          <p:spPr>
            <a:xfrm>
              <a:off x="363564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圖片 13" descr="石油.gif"/>
            <p:cNvPicPr/>
            <p:nvPr/>
          </p:nvPicPr>
          <p:blipFill>
            <a:blip r:embed="rId6"/>
            <a:stretch/>
          </p:blipFill>
          <p:spPr>
            <a:xfrm>
              <a:off x="457200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圖片 14" descr="石油.gif"/>
            <p:cNvPicPr/>
            <p:nvPr/>
          </p:nvPicPr>
          <p:blipFill>
            <a:blip r:embed="rId7"/>
            <a:stretch/>
          </p:blipFill>
          <p:spPr>
            <a:xfrm>
              <a:off x="25092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圖片 15" descr="石油.gif"/>
            <p:cNvPicPr/>
            <p:nvPr/>
          </p:nvPicPr>
          <p:blipFill>
            <a:blip r:embed="rId8"/>
            <a:stretch/>
          </p:blipFill>
          <p:spPr>
            <a:xfrm>
              <a:off x="118692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圖片 16" descr="石油.gif"/>
            <p:cNvPicPr/>
            <p:nvPr/>
          </p:nvPicPr>
          <p:blipFill>
            <a:blip r:embed="rId9"/>
            <a:stretch/>
          </p:blipFill>
          <p:spPr>
            <a:xfrm>
              <a:off x="212328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圖片 17" descr="石油.gif"/>
            <p:cNvPicPr/>
            <p:nvPr/>
          </p:nvPicPr>
          <p:blipFill>
            <a:blip r:embed="rId10"/>
            <a:stretch/>
          </p:blipFill>
          <p:spPr>
            <a:xfrm>
              <a:off x="305964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圖片 18" descr="石油.gif"/>
            <p:cNvPicPr/>
            <p:nvPr/>
          </p:nvPicPr>
          <p:blipFill>
            <a:blip r:embed="rId11"/>
            <a:stretch/>
          </p:blipFill>
          <p:spPr>
            <a:xfrm>
              <a:off x="399564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圖片 19" descr="石油.gif"/>
            <p:cNvPicPr/>
            <p:nvPr/>
          </p:nvPicPr>
          <p:blipFill>
            <a:blip r:embed="rId12"/>
            <a:stretch/>
          </p:blipFill>
          <p:spPr>
            <a:xfrm>
              <a:off x="493200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圓角矩形圖說文字 27"/>
          <p:cNvSpPr/>
          <p:nvPr/>
        </p:nvSpPr>
        <p:spPr>
          <a:xfrm>
            <a:off x="250920" y="189000"/>
            <a:ext cx="8642160" cy="1511280"/>
          </a:xfrm>
          <a:prstGeom prst="wedgeRoundRectCallout">
            <a:avLst>
              <a:gd name="adj1" fmla="val -50537"/>
              <a:gd name="adj2" fmla="val 35296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究竟製造塑膠對環境帶來甚麼影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雲朵形圖說文字 21"/>
          <p:cNvSpPr/>
          <p:nvPr/>
        </p:nvSpPr>
        <p:spPr>
          <a:xfrm>
            <a:off x="1692360" y="1413000"/>
            <a:ext cx="6875280" cy="2160360"/>
          </a:xfrm>
          <a:prstGeom prst="cloudCallout">
            <a:avLst>
              <a:gd name="adj1" fmla="val 34638"/>
              <a:gd name="adj2" fmla="val -46564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塑膠是用甚麼製造的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user\AppData\Local\Microsoft\Windows\Temporary Internet Files\Content.IE5\L4XEIEWS\MC900423828[1].wmf"/>
          <p:cNvPicPr/>
          <p:nvPr/>
        </p:nvPicPr>
        <p:blipFill>
          <a:blip r:embed="rId13"/>
          <a:stretch/>
        </p:blipFill>
        <p:spPr>
          <a:xfrm rot="21364200">
            <a:off x="7833960" y="1238400"/>
            <a:ext cx="1257120" cy="1584000"/>
          </a:xfrm>
          <a:prstGeom prst="rect">
            <a:avLst/>
          </a:prstGeom>
          <a:ln w="0">
            <a:noFill/>
          </a:ln>
        </p:spPr>
      </p:pic>
      <p:sp>
        <p:nvSpPr>
          <p:cNvPr id="194" name="內容版面配置區 2"/>
          <p:cNvSpPr/>
          <p:nvPr/>
        </p:nvSpPr>
        <p:spPr>
          <a:xfrm>
            <a:off x="1908000" y="5021280"/>
            <a:ext cx="511200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能源短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內容版面配置區 2"/>
          <p:cNvSpPr/>
          <p:nvPr/>
        </p:nvSpPr>
        <p:spPr>
          <a:xfrm>
            <a:off x="468360" y="3500280"/>
            <a:ext cx="511164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石油耗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4291-5E69-4071-A386-B76844DF27C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C:\Users\user\AppData\Local\Microsoft\Windows\Temporary Internet Files\Content.IE5\L4XEIEWS\MM900282869[1].gif"/>
          <p:cNvPicPr/>
          <p:nvPr/>
        </p:nvPicPr>
        <p:blipFill>
          <a:blip r:embed="rId1"/>
          <a:stretch/>
        </p:blipFill>
        <p:spPr>
          <a:xfrm>
            <a:off x="2916360" y="3357720"/>
            <a:ext cx="3887640" cy="2896920"/>
          </a:xfrm>
          <a:prstGeom prst="rect">
            <a:avLst/>
          </a:prstGeom>
          <a:ln w="0">
            <a:noFill/>
          </a:ln>
        </p:spPr>
      </p:pic>
      <p:sp>
        <p:nvSpPr>
          <p:cNvPr id="198" name="雲朵形圖說文字 6"/>
          <p:cNvSpPr/>
          <p:nvPr/>
        </p:nvSpPr>
        <p:spPr>
          <a:xfrm>
            <a:off x="468360" y="2492280"/>
            <a:ext cx="2590920" cy="2016360"/>
          </a:xfrm>
          <a:prstGeom prst="cloudCallout">
            <a:avLst>
              <a:gd name="adj1" fmla="val 56462"/>
              <a:gd name="adj2" fmla="val 3719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Comic Sans MS"/>
              </a:rPr>
              <a:t>二氧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Comic Sans MS"/>
              </a:rPr>
              <a:t>化碳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雲朵形圖說文字 7"/>
          <p:cNvSpPr/>
          <p:nvPr/>
        </p:nvSpPr>
        <p:spPr>
          <a:xfrm>
            <a:off x="5651640" y="2924280"/>
            <a:ext cx="3168360" cy="1657080"/>
          </a:xfrm>
          <a:prstGeom prst="cloudCallout">
            <a:avLst>
              <a:gd name="adj1" fmla="val -46439"/>
              <a:gd name="adj2" fmla="val 5794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omic Sans MS"/>
              </a:rPr>
              <a:t>一氧化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雲朵形圖說文字 10"/>
          <p:cNvSpPr/>
          <p:nvPr/>
        </p:nvSpPr>
        <p:spPr>
          <a:xfrm>
            <a:off x="1835280" y="189000"/>
            <a:ext cx="6877080" cy="2303280"/>
          </a:xfrm>
          <a:prstGeom prst="cloudCallout">
            <a:avLst>
              <a:gd name="adj1" fmla="val -50888"/>
              <a:gd name="adj2" fmla="val -2347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製造塑膠的過程會如何破壞環境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611280" y="620640"/>
            <a:ext cx="1625400" cy="1656000"/>
          </a:xfrm>
          <a:prstGeom prst="rect">
            <a:avLst/>
          </a:prstGeom>
          <a:ln w="0">
            <a:noFill/>
          </a:ln>
        </p:spPr>
      </p:pic>
      <p:sp>
        <p:nvSpPr>
          <p:cNvPr id="202" name="內容版面配置區 2"/>
          <p:cNvSpPr/>
          <p:nvPr/>
        </p:nvSpPr>
        <p:spPr>
          <a:xfrm>
            <a:off x="611280" y="3220920"/>
            <a:ext cx="525600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全球增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內容版面配置區 2"/>
          <p:cNvSpPr/>
          <p:nvPr/>
        </p:nvSpPr>
        <p:spPr>
          <a:xfrm>
            <a:off x="2916360" y="4653000"/>
            <a:ext cx="5256000" cy="1440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天災頻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4482-B1A2-4FE7-9B46-828CC452A90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530280" y="3068640"/>
            <a:ext cx="8074080" cy="3097080"/>
          </a:xfrm>
          <a:prstGeom prst="rect">
            <a:avLst/>
          </a:prstGeom>
          <a:ln w="0">
            <a:noFill/>
          </a:ln>
        </p:spPr>
      </p:pic>
      <p:sp>
        <p:nvSpPr>
          <p:cNvPr id="209" name="向右箭號 6"/>
          <p:cNvSpPr/>
          <p:nvPr/>
        </p:nvSpPr>
        <p:spPr>
          <a:xfrm>
            <a:off x="3276720" y="3357720"/>
            <a:ext cx="2303280" cy="136656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一百年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雲朵形圖說文字 7"/>
          <p:cNvSpPr/>
          <p:nvPr/>
        </p:nvSpPr>
        <p:spPr>
          <a:xfrm>
            <a:off x="539640" y="404640"/>
            <a:ext cx="7164360" cy="2592720"/>
          </a:xfrm>
          <a:prstGeom prst="cloudCallout">
            <a:avLst>
              <a:gd name="adj1" fmla="val 49750"/>
              <a:gd name="adj2" fmla="val 3424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以堆填方式處理塑膠，會否對環境造成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7236000" y="1052640"/>
            <a:ext cx="1625400" cy="1655640"/>
          </a:xfrm>
          <a:prstGeom prst="rect">
            <a:avLst/>
          </a:prstGeom>
          <a:ln w="0">
            <a:noFill/>
          </a:ln>
        </p:spPr>
      </p:pic>
      <p:sp>
        <p:nvSpPr>
          <p:cNvPr id="212" name="內容版面配置區 2"/>
          <p:cNvSpPr/>
          <p:nvPr/>
        </p:nvSpPr>
        <p:spPr>
          <a:xfrm>
            <a:off x="755640" y="4508640"/>
            <a:ext cx="3887640" cy="129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土地污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內容版面配置區 2"/>
          <p:cNvSpPr/>
          <p:nvPr/>
        </p:nvSpPr>
        <p:spPr>
          <a:xfrm>
            <a:off x="971640" y="3068640"/>
            <a:ext cx="730728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加速堆填區飽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內容版面配置區 2"/>
          <p:cNvSpPr/>
          <p:nvPr/>
        </p:nvSpPr>
        <p:spPr>
          <a:xfrm>
            <a:off x="4643280" y="4508640"/>
            <a:ext cx="3816360" cy="129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空氣污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1F90-56EE-4676-A4CF-7AC72FEBEFC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18" name="雲朵形圖說文字 4"/>
          <p:cNvSpPr/>
          <p:nvPr/>
        </p:nvSpPr>
        <p:spPr>
          <a:xfrm>
            <a:off x="5003640" y="3141720"/>
            <a:ext cx="2737080" cy="1727280"/>
          </a:xfrm>
          <a:prstGeom prst="cloudCallout">
            <a:avLst>
              <a:gd name="adj1" fmla="val -39356"/>
              <a:gd name="adj2" fmla="val 66481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omic Sans MS"/>
              </a:rPr>
              <a:t>二噁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3313080" cy="3070080"/>
          </a:xfrm>
          <a:prstGeom prst="rect">
            <a:avLst/>
          </a:prstGeom>
          <a:ln w="0">
            <a:noFill/>
          </a:ln>
        </p:spPr>
      </p:pic>
      <p:sp>
        <p:nvSpPr>
          <p:cNvPr id="220" name="雲朵形圖說文字 6"/>
          <p:cNvSpPr/>
          <p:nvPr/>
        </p:nvSpPr>
        <p:spPr>
          <a:xfrm>
            <a:off x="324000" y="620640"/>
            <a:ext cx="7164360" cy="2303640"/>
          </a:xfrm>
          <a:prstGeom prst="cloudCallout">
            <a:avLst>
              <a:gd name="adj1" fmla="val 47939"/>
              <a:gd name="adj2" fmla="val -4241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以焚化方式處理塑膠，會否對環境造成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7020000" y="476280"/>
            <a:ext cx="1625400" cy="165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D:\Temp\Temporary Internet Files\Content.IE5\HDXSWTAK\MC900436397[1].png"/>
          <p:cNvPicPr/>
          <p:nvPr/>
        </p:nvPicPr>
        <p:blipFill>
          <a:blip r:embed="rId3"/>
          <a:stretch/>
        </p:blipFill>
        <p:spPr>
          <a:xfrm rot="21282600">
            <a:off x="7021440" y="357336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223" name="內容版面配置區 2"/>
          <p:cNvSpPr/>
          <p:nvPr/>
        </p:nvSpPr>
        <p:spPr>
          <a:xfrm>
            <a:off x="3348000" y="4724280"/>
            <a:ext cx="309564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致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5B26-BC61-4E5E-831D-F5A446AE5E1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F86A-E2CF-483A-933E-9A388EBAB4E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5655" t="0" r="5740" b="9682"/>
          <a:stretch/>
        </p:blipFill>
        <p:spPr>
          <a:xfrm>
            <a:off x="108000" y="2205000"/>
            <a:ext cx="3456000" cy="1986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duck_with_plastic.jpg"/>
          <p:cNvPicPr/>
          <p:nvPr/>
        </p:nvPicPr>
        <p:blipFill>
          <a:blip r:embed="rId2"/>
          <a:srcRect l="0" t="19814" r="0" b="0"/>
          <a:stretch/>
        </p:blipFill>
        <p:spPr>
          <a:xfrm>
            <a:off x="3598920" y="2637000"/>
            <a:ext cx="3276720" cy="1747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31" name="內容版面配置區 2"/>
          <p:cNvSpPr/>
          <p:nvPr/>
        </p:nvSpPr>
        <p:spPr>
          <a:xfrm>
            <a:off x="250920" y="1268280"/>
            <a:ext cx="5184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雲朵形圖說文字 11"/>
          <p:cNvSpPr/>
          <p:nvPr/>
        </p:nvSpPr>
        <p:spPr>
          <a:xfrm>
            <a:off x="1763640" y="260280"/>
            <a:ext cx="6875640" cy="2305080"/>
          </a:xfrm>
          <a:prstGeom prst="cloudCallout">
            <a:avLst>
              <a:gd name="adj1" fmla="val -49379"/>
              <a:gd name="adj2" fmla="val -3790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omic Sans MS"/>
              </a:rPr>
              <a:t>胡亂丟棄塑膠對生態造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成甚麼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Users\user\AppData\Local\Microsoft\Windows\Temporary Internet Files\Content.IE5\0YFQWHE2\MC900434411[1].wmf"/>
          <p:cNvPicPr/>
          <p:nvPr/>
        </p:nvPicPr>
        <p:blipFill>
          <a:blip r:embed="rId3"/>
          <a:stretch/>
        </p:blipFill>
        <p:spPr>
          <a:xfrm>
            <a:off x="250920" y="333360"/>
            <a:ext cx="1625400" cy="165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NBC_Bird_in_Plastic.png"/>
          <p:cNvPicPr/>
          <p:nvPr/>
        </p:nvPicPr>
        <p:blipFill>
          <a:blip r:embed="rId4"/>
          <a:stretch/>
        </p:blipFill>
        <p:spPr>
          <a:xfrm>
            <a:off x="6192720" y="4076640"/>
            <a:ext cx="298764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3"/>
          <p:cNvGrpSpPr/>
          <p:nvPr/>
        </p:nvGrpSpPr>
        <p:grpSpPr>
          <a:xfrm>
            <a:off x="6875640" y="1916280"/>
            <a:ext cx="2017440" cy="2089080"/>
            <a:chOff x="6875640" y="1916280"/>
            <a:chExt cx="2017440" cy="2089080"/>
          </a:xfrm>
        </p:grpSpPr>
        <p:pic>
          <p:nvPicPr>
            <p:cNvPr id="236" name="Picture 3" descr="海黽.jpg"/>
            <p:cNvPicPr/>
            <p:nvPr/>
          </p:nvPicPr>
          <p:blipFill>
            <a:blip r:embed="rId5"/>
            <a:srcRect l="10677" t="8803" r="35037" b="23724"/>
            <a:stretch/>
          </p:blipFill>
          <p:spPr>
            <a:xfrm>
              <a:off x="6875640" y="2441160"/>
              <a:ext cx="1880280" cy="156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TextBox 19"/>
            <p:cNvGrpSpPr/>
            <p:nvPr/>
          </p:nvGrpSpPr>
          <p:grpSpPr>
            <a:xfrm>
              <a:off x="8148960" y="1916280"/>
              <a:ext cx="744120" cy="1081800"/>
              <a:chOff x="8148960" y="1916280"/>
              <a:chExt cx="744120" cy="1081800"/>
            </a:xfrm>
          </p:grpSpPr>
          <p:pic>
            <p:nvPicPr>
              <p:cNvPr id="238" name="TextBox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148960" y="1916280"/>
                <a:ext cx="744120" cy="10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8285760" y="2032920"/>
                <a:ext cx="47016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500" spc="-1" strike="noStrike">
                    <a:solidFill>
                      <a:srgbClr val="ffffff"/>
                    </a:solidFill>
                    <a:latin typeface="Comic Sans MS"/>
                  </a:rPr>
                  <a:t>海黽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內容版面配置區 2"/>
          <p:cNvSpPr/>
          <p:nvPr/>
        </p:nvSpPr>
        <p:spPr>
          <a:xfrm>
            <a:off x="1116000" y="2276640"/>
            <a:ext cx="6335640" cy="14396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危害生態平衡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7"/>
          <a:srcRect l="14156" t="15216" r="27352" b="0"/>
          <a:stretch/>
        </p:blipFill>
        <p:spPr>
          <a:xfrm>
            <a:off x="108000" y="4214880"/>
            <a:ext cx="3095640" cy="2527200"/>
          </a:xfrm>
          <a:prstGeom prst="rect">
            <a:avLst/>
          </a:prstGeom>
          <a:ln w="0">
            <a:noFill/>
          </a:ln>
        </p:spPr>
      </p:pic>
      <p:pic>
        <p:nvPicPr>
          <p:cNvPr id="242" name="圖片 22" descr="248.jpg"/>
          <p:cNvPicPr/>
          <p:nvPr/>
        </p:nvPicPr>
        <p:blipFill>
          <a:blip r:embed="rId8"/>
          <a:stretch/>
        </p:blipFill>
        <p:spPr>
          <a:xfrm>
            <a:off x="3203640" y="4437000"/>
            <a:ext cx="2944800" cy="2160720"/>
          </a:xfrm>
          <a:prstGeom prst="rect">
            <a:avLst/>
          </a:prstGeom>
          <a:ln w="0">
            <a:noFill/>
          </a:ln>
        </p:spPr>
      </p:pic>
      <p:sp>
        <p:nvSpPr>
          <p:cNvPr id="243" name="內容版面配置區 2"/>
          <p:cNvSpPr/>
          <p:nvPr/>
        </p:nvSpPr>
        <p:spPr>
          <a:xfrm>
            <a:off x="1908000" y="5157720"/>
            <a:ext cx="6336000" cy="136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人類自食其果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內容版面配置區 2"/>
          <p:cNvSpPr/>
          <p:nvPr/>
        </p:nvSpPr>
        <p:spPr>
          <a:xfrm>
            <a:off x="2987640" y="3789360"/>
            <a:ext cx="4464000" cy="1295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生物絕種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</a:t>
            </a: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</a:t>
            </a:r>
            <a:r>
              <a:rPr b="1" lang="zh-TW" sz="6000" spc="-1" strike="noStrike">
                <a:solidFill>
                  <a:srgbClr val="660033"/>
                </a:solidFill>
                <a:latin typeface="Comic Sans MS"/>
                <a:ea typeface="新細明體"/>
              </a:rPr>
              <a:t>我是預言家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圓角矩形圖說文字 4"/>
          <p:cNvSpPr/>
          <p:nvPr/>
        </p:nvSpPr>
        <p:spPr>
          <a:xfrm>
            <a:off x="353880" y="1916280"/>
            <a:ext cx="8610840" cy="3313080"/>
          </a:xfrm>
          <a:prstGeom prst="wedgeRoundRectCallout">
            <a:avLst>
              <a:gd name="adj1" fmla="val -3240"/>
              <a:gd name="adj2" fmla="val 6933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小朋友，如果人們使用塑膠的習慣不變，你能扮演預言家，預言這對五十年後的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人類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動物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植物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會有甚麼影響嗎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C:\Users\user\AppData\Local\Microsoft\Windows\Temporary Internet Files\Content.IE5\0YFQWHE2\MC900318654[1].wmf"/>
          <p:cNvPicPr/>
          <p:nvPr/>
        </p:nvPicPr>
        <p:blipFill>
          <a:blip r:embed="rId1"/>
          <a:stretch/>
        </p:blipFill>
        <p:spPr>
          <a:xfrm>
            <a:off x="900000" y="0"/>
            <a:ext cx="2159280" cy="2336760"/>
          </a:xfrm>
          <a:prstGeom prst="rect">
            <a:avLst/>
          </a:prstGeom>
          <a:ln w="0">
            <a:noFill/>
          </a:ln>
        </p:spPr>
      </p:pic>
      <p:pic>
        <p:nvPicPr>
          <p:cNvPr id="250" name="內容版面配置區 5" descr="plastic2uuu.gif"/>
          <p:cNvPicPr/>
          <p:nvPr/>
        </p:nvPicPr>
        <p:blipFill>
          <a:blip r:embed="rId2"/>
          <a:srcRect l="50751" t="0" r="0" b="0"/>
          <a:stretch/>
        </p:blipFill>
        <p:spPr>
          <a:xfrm>
            <a:off x="4427640" y="4459320"/>
            <a:ext cx="4052880" cy="24987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3DD9-0682-46BD-8686-2F3408F70B6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圓角矩形圖說文字 6"/>
          <p:cNvSpPr/>
          <p:nvPr/>
        </p:nvSpPr>
        <p:spPr>
          <a:xfrm>
            <a:off x="395280" y="189000"/>
            <a:ext cx="8394840" cy="1224000"/>
          </a:xfrm>
          <a:prstGeom prst="wedgeRoundRectCallout">
            <a:avLst>
              <a:gd name="adj1" fmla="val -11115"/>
              <a:gd name="adj2" fmla="val 6552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小朋友，你認為這是誰的過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雲朵形圖說文字 3"/>
          <p:cNvSpPr/>
          <p:nvPr/>
        </p:nvSpPr>
        <p:spPr>
          <a:xfrm>
            <a:off x="1763640" y="3429000"/>
            <a:ext cx="2521080" cy="1295280"/>
          </a:xfrm>
          <a:prstGeom prst="cloudCallout">
            <a:avLst>
              <a:gd name="adj1" fmla="val 27814"/>
              <a:gd name="adj2" fmla="val 67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塑膠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雲朵形圖說文字 4"/>
          <p:cNvSpPr/>
          <p:nvPr/>
        </p:nvSpPr>
        <p:spPr>
          <a:xfrm>
            <a:off x="250920" y="1484280"/>
            <a:ext cx="3492360" cy="1978200"/>
          </a:xfrm>
          <a:prstGeom prst="cloudCallout">
            <a:avLst>
              <a:gd name="adj1" fmla="val -38768"/>
              <a:gd name="adj2" fmla="val 55148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製造塑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雲朵形圖說文字 7"/>
          <p:cNvSpPr/>
          <p:nvPr/>
        </p:nvSpPr>
        <p:spPr>
          <a:xfrm>
            <a:off x="3745080" y="1197000"/>
            <a:ext cx="5148000" cy="1511280"/>
          </a:xfrm>
          <a:prstGeom prst="cloudCallout">
            <a:avLst>
              <a:gd name="adj1" fmla="val 32189"/>
              <a:gd name="adj2" fmla="val 5960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濫用塑膠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雲朵形圖說文字 8"/>
          <p:cNvSpPr/>
          <p:nvPr/>
        </p:nvSpPr>
        <p:spPr>
          <a:xfrm>
            <a:off x="4356000" y="2852640"/>
            <a:ext cx="4429080" cy="1800360"/>
          </a:xfrm>
          <a:prstGeom prst="cloudCallout">
            <a:avLst>
              <a:gd name="adj1" fmla="val -29277"/>
              <a:gd name="adj2" fmla="val 63652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胡亂丟棄塑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內容版面配置區 5" descr="plastic2uuu.gif"/>
          <p:cNvPicPr/>
          <p:nvPr/>
        </p:nvPicPr>
        <p:blipFill>
          <a:blip r:embed="rId1"/>
          <a:stretch/>
        </p:blipFill>
        <p:spPr>
          <a:xfrm>
            <a:off x="539640" y="4221000"/>
            <a:ext cx="8229600" cy="249876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121-9F46-4508-8B4A-27BF0FC0691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10:52Z</dcterms:modified>
  <cp:revision>124</cp:revision>
  <dc:subject/>
  <dc:title>課節二：為什麼要送我到堆填區？ </dc:title>
</cp:coreProperties>
</file>