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wmf" ContentType="image/x-wmf"/>
  <Override PartName="/ppt/media/image3.png" ContentType="image/png"/>
  <Override PartName="/ppt/media/image9.wmf" ContentType="image/x-wmf"/>
  <Override PartName="/ppt/media/image8.jpeg" ContentType="image/jpeg"/>
  <Override PartName="/ppt/media/image5.png" ContentType="image/png"/>
  <Override PartName="/ppt/media/image7.jpeg" ContentType="image/jpeg"/>
  <Override PartName="/ppt/media/image20.png" ContentType="image/png"/>
  <Override PartName="/ppt/media/image21.jpeg" ContentType="image/jpeg"/>
  <Override PartName="/ppt/media/image16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15.png" ContentType="image/png"/>
  <Override PartName="/ppt/media/image14.wmf" ContentType="image/x-wmf"/>
  <Override PartName="/ppt/media/image1.png" ContentType="image/png"/>
  <Override PartName="/ppt/media/image4.jpeg" ContentType="image/jpeg"/>
  <Override PartName="/ppt/media/image2.png" ContentType="image/png"/>
  <Override PartName="/ppt/media/image10.png" ContentType="image/pn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6400" y="731880"/>
            <a:ext cx="4875480" cy="3657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4C812-FE43-4316-90CA-14B7194325CB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你認為政府回應光污染問題的速度如何？為甚麼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緩慢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在接收到光污染投訴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年，才成立專責小組處理光污染問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9B80F-EE33-42D5-A84E-3D579EB4981D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你認為《戶外燈光裝置業界良好作業指引》能否有效解決光污染問題？為甚麼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不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指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只屬自願形式，試驗三年才考慮是否立法，令污染者愛理不理，最終只會令居民逆來順受，無法幫到他們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指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未有界定何謂「過度照亮」，且沒有燈光亮度建議，規管未夠嚴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綜合以上資料，你認為政府對「應否立例管制光污染？」這議題持甚麼立場？為甚麼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當光污染的投訴增多，成為社會上一個嚴重問題時，才會考慮應否立法進行管制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牽涉層面廣，需從長計議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希望能盡量平衡各持份者的利益，故成立專責委員會和推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指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（回應環團和居民的訴求），但卻匆匆推出未夠全面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指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，且繞過委員會，無採納專責小組多項共識意見（保障工商界的利益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A2B4E-F449-47DC-AD2D-30ABAF5FF764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教師派發白字卡，讓學生寫下其所代表的持份者對議題的訴求，並將字卡張貼在黑板上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篩選及調動學生張貼在黑板上的字卡，從各持份者的意見，找出政策的爭議點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經濟效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環境保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人體健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E7154-EC89-4961-8F30-65DE9B35A9F6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7160" indent="-22716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為了經濟利益，在公共空間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製造光污染，犠牲附近居民及生態的利益，反映港人有甚麼價值取向？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關注改變後的成本效益＞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生態環境的健康 （自私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怎樣才能提升市民的環保意識？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宣傳教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立法是否能根治污染問題，為甚麼？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不能，政府難以監管家居照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甚麼措施才是根治光污染的方法？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從持份者的生活習慣及用電習慣做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公共空間的定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公共空間指公眾有權出入，並無須繳付任何費用的地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18B66-11F6-4EC5-973E-EEC4BE10B806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5A7A6-080E-46A0-BEA1-22193C5C0FFB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NE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天台巨型屏幕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D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燈，雖具能源效益但帶來滋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EDE97-D97C-487C-AB38-8A3AFB1B493B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1641E-A5BD-4C2E-A431-DC8283B32021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20F32-FAA2-495E-BE6F-106FD94BB658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你能根據資料一和二，指出廣告燈箱／璀璨燈飾夜景與香港經濟利益之間的關係嗎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閃動的廣告牌能吸引消費力強的旅客入內光顧，増加店舖的營業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香港的璀璨夜景很受旅客歡迎，能帶動旅遊業發展，為香港帶來可觀收入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由此推斷，你認為工商界對「應否立例管制光污染？」這議題持甚麼立場？為甚麼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反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因這可能會損害香港的國際形象，影響營商環境，為他們的營業額帶來負面影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01F88-BC6C-40DA-BA7B-624939156A04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你能從資料一和二推斷出影響店舖營業額的主要因素嗎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朋友及家人對該店舖／產品的意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用家在網上分享的經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（而不是又多又光的廣告燈箱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管制燈光與經濟利益之間是否必然存在衝突？為甚麼？試利用以下資料加以解釋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不是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因為旅客喜歡在網上搜尋資料及聽取朋友和家人的意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48%)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，同時他們會從網上搜尋用家的親身經驗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47%)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，可見口傳意見的接受度高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口傳的意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與廣告燈箱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宣傳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並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無必然關係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所以，經濟利益與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管制燈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之間不一定存在衝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要長遠吸引和留住顧客，店舖應從哪方面入手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應提升產品／服務質素，以贏取口碑，而非花大量資金在安裝刺眼的廣告燈箱上，因這可能反而令顧客反感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6201E-66D4-4C14-837B-2B09D157092F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過量燈光會對環境造成甚麼影響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由於照明設施會發出熱力，導致氣溫升高，因此過度照明亦會間接令空氣調節需求增加，形成雙重浪費。（教師可在此指出：發電產生二氧化碳，而過度照明無形中亦令碳排放不必要地增加。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破壞原來繁星滿佈的天空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綜合資料一至三，你認為環團對「應否立例管制光污染？」這議題持甚麼立場？為甚麼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支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因為燈光廣告非主要招徠營業額的主因，店舖口碑重於廣告燈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因為立例能保育美麗的星空，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減低發電需要，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紓緩全球暖化和能源危機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B78BB-9ACC-4B53-99DE-8323161438AA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根據資料一和二，評論居民處理光滋擾的方法，並作解釋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資料反映居民遇到光滋擾時，多以被動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消極的態度面對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（加設窗簾、戴眼罩、搬家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這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以往光污染無例可管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有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41350-C617-42EE-AA7D-3E00C0F94D87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身體經常被強光照射會有何影響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神經緊張、影響生理時鐘、傷害眼睛，導致疲勞綜合症，更有機會誘發癲癇症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綜合以上資料，你認為居民對「應否立例管制光污染？」這議題持甚麼立場？為甚麼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支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因這能規管店舖的燈光，他們不用再面對閃耀強光而苦無對策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燈光受到規管，他們便能有良好的作息，紓緩神經緊張，減低光害對他們身體的威脅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E5E36-10F8-4465-BB72-2854DDFBE4C1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1CDE-9601-4F65-914E-246C99E4C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C2B9-43E3-4A39-B91B-528E7C5AB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0CC8-9729-42FE-94D5-6D67633FF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A5DF-292B-4D11-BB22-64D4342BF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AF28-1611-4C97-B6A3-0E2A30BDC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C63E-770B-456A-B482-D37DD01A0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C341-7D05-4568-8BBD-FD3FC1DDA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96EC-9356-4254-87B1-B1D80B267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1C55-F162-46FA-BF23-1A3DBA89E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4A5E-371D-45BD-8CD7-301BCB56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6CDC-CA6F-4A2A-A51C-4C73186F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6D1A-77A9-4162-B9EB-2B791C9E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CDF0F-1552-4CE3-A22C-707C029B5505}" type="datetime">
              <a:rPr b="0" lang="zh-TW" sz="1200" spc="-1" strike="noStrike">
                <a:solidFill>
                  <a:srgbClr val="898989"/>
                </a:solidFill>
                <a:latin typeface="Calibri"/>
              </a:rPr>
              <a:t>115/0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6C78D-8608-407E-9881-0F39C6F61300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jcXzr4gBrfw&amp;feature=related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Calibri"/>
              </a:rPr>
              <a:t>課節三至四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Calibri"/>
              </a:rPr>
              <a:t>對抗光污染的行動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lide Number Placeholder 2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B28D2-CC50-40B0-975D-71C9AE04C77E}" type="slidenum">
              <a:rPr b="0" lang="zh-TW" sz="1200" spc="-1" strike="noStrike">
                <a:solidFill>
                  <a:srgbClr val="898989"/>
                </a:solidFill>
                <a:latin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193320" y="6501600"/>
            <a:ext cx="50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2451F-674D-404A-9A38-C97BA4F68899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0" y="1125360"/>
            <a:ext cx="914400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libri"/>
              </a:rPr>
              <a:t>你認為政府回應光污染問題的速度如何？為甚麼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itle 1"/>
          <p:cNvSpPr/>
          <p:nvPr/>
        </p:nvSpPr>
        <p:spPr>
          <a:xfrm>
            <a:off x="468360" y="0"/>
            <a:ext cx="8229600" cy="549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Calibri"/>
              </a:rPr>
              <a:t>應否立例管制光污染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577800" y="5493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Calibri"/>
              </a:rPr>
              <a:t>政府的立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11280" y="2060640"/>
          <a:ext cx="7777080" cy="1752480"/>
        </p:xfrm>
        <a:graphic>
          <a:graphicData uri="http://schemas.openxmlformats.org/drawingml/2006/table">
            <a:tbl>
              <a:tblPr/>
              <a:tblGrid>
                <a:gridCol w="1224000"/>
                <a:gridCol w="1092240"/>
                <a:gridCol w="1091880"/>
                <a:gridCol w="1092240"/>
                <a:gridCol w="1092240"/>
                <a:gridCol w="1092240"/>
                <a:gridCol w="1092240"/>
              </a:tblGrid>
              <a:tr h="350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廣告招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射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其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總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Rectangle 7"/>
          <p:cNvSpPr/>
          <p:nvPr/>
        </p:nvSpPr>
        <p:spPr>
          <a:xfrm>
            <a:off x="658080" y="3789360"/>
            <a:ext cx="9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資料來源：環保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2520000" y="1628640"/>
            <a:ext cx="73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資料一：光污染及光滋擾投訴一覽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1457640" y="4076640"/>
            <a:ext cx="286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Arial"/>
              </a:rPr>
              <a:t>資料二：政府成立戶外燈光專責小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0"/>
          <p:cNvSpPr/>
          <p:nvPr/>
        </p:nvSpPr>
        <p:spPr>
          <a:xfrm>
            <a:off x="539640" y="443700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環保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1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月成立戶外燈光專責小組，研究解決本地光污染問題。專責小組亦將負責加強有關戶外燈光的宣傳及公眾教育，並在參考國際經驗和做法後，就解決戶外燈光造成滋擾和能源浪費問題，建議未來路向。環境局將為專責小組提供秘書支援服務，而環境保護署、機電工程署、屋宇署、規劃署和生署等政府部門亦會為專責小組的工作提供支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7281720" y="6165720"/>
            <a:ext cx="94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資料來源：政府新聞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193320" y="6501600"/>
            <a:ext cx="50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07640" y="620280"/>
            <a:ext cx="878508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Calibri"/>
              </a:rPr>
              <a:t>政府的立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Calibri"/>
              </a:rPr>
              <a:t>你認為《戶外燈光裝置業界良好作業指引》能否有效解決光污染問題？為甚麼？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Calibri"/>
              </a:rPr>
              <a:t>綜合以上資料，你認為政府對「應否立例管制光污染？」這議題持甚麼立場？為甚麼？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itle 1"/>
          <p:cNvSpPr/>
          <p:nvPr/>
        </p:nvSpPr>
        <p:spPr>
          <a:xfrm>
            <a:off x="468360" y="0"/>
            <a:ext cx="8229600" cy="549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Calibri"/>
              </a:rPr>
              <a:t>應否立例管制光污染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Rectangle 5"/>
          <p:cNvGrpSpPr/>
          <p:nvPr/>
        </p:nvGrpSpPr>
        <p:grpSpPr>
          <a:xfrm>
            <a:off x="731880" y="2828880"/>
            <a:ext cx="7753320" cy="3218040"/>
            <a:chOff x="731880" y="2828880"/>
            <a:chExt cx="7753320" cy="3218040"/>
          </a:xfrm>
        </p:grpSpPr>
        <p:pic>
          <p:nvPicPr>
            <p:cNvPr id="141" name="Rectangle 5" descr=""/>
            <p:cNvPicPr/>
            <p:nvPr/>
          </p:nvPicPr>
          <p:blipFill>
            <a:blip r:embed="rId1"/>
            <a:stretch/>
          </p:blipFill>
          <p:spPr>
            <a:xfrm>
              <a:off x="731880" y="2828880"/>
              <a:ext cx="7753320" cy="321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755640" y="3764160"/>
              <a:ext cx="7704000" cy="134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200" spc="-1" strike="noStrike">
                  <a:solidFill>
                    <a:srgbClr val="000000"/>
                  </a:solidFill>
                  <a:latin typeface="Arial"/>
                </a:rPr>
                <a:t>資料三：政府突推光污染指引 環團轟未納建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   </a:t>
              </a:r>
              <a:r>
                <a:rPr b="0" lang="zh-TW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為減少光滋擾及能源浪費，政府於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2012</a:t>
              </a:r>
              <a:r>
                <a:rPr b="0" lang="zh-TW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年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1</a:t>
              </a:r>
              <a:r>
                <a:rPr b="0" lang="zh-TW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月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26</a:t>
              </a:r>
              <a:r>
                <a:rPr b="0" lang="zh-TW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日推出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《</a:t>
              </a:r>
              <a:r>
                <a:rPr b="0" lang="zh-TW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戶外燈光裝置業界良好作業指引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》</a:t>
              </a:r>
              <a:r>
                <a:rPr b="0" lang="zh-TW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，供承辦商、裝置擁有人、物業管理公司和用戶參考，希望業界自願參與，以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3</a:t>
              </a:r>
              <a:r>
                <a:rPr b="0" lang="zh-TW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年時間觀察本港光污染問題是否有改善，然後才研究是否立法強制所有業界遵守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   </a:t>
              </a:r>
              <a:r>
                <a:rPr b="0" lang="zh-TW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建議商戶在晚上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11</a:t>
              </a:r>
              <a:r>
                <a:rPr b="0" lang="zh-TW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時後關掉戶外燈光，以及避免將招牌燈光向民居或天空直射等，但未有界定何謂「過度照亮」，沒有燈光亮度建議。參與制訂的環團昨對指引匆匆出台感突然，指事前未獲通知，出台版本亦無採納專責小組多項共識意見，如設立燈光管制區加強規管等，質疑政府繞過委員會，對此表示不滿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Rectangle 6"/>
          <p:cNvSpPr/>
          <p:nvPr/>
        </p:nvSpPr>
        <p:spPr>
          <a:xfrm>
            <a:off x="1243440" y="6021360"/>
            <a:ext cx="92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資料來源：《明報》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7/1/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50F6B-073E-44AD-A9EF-7D69C5B0F481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193320" y="6501600"/>
            <a:ext cx="50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5" descr="D:\Temp\Temporary Internet Files\Content.IE5\KCVU9X3R\MC900441457[1].png"/>
          <p:cNvPicPr/>
          <p:nvPr/>
        </p:nvPicPr>
        <p:blipFill>
          <a:blip r:embed="rId2"/>
          <a:stretch/>
        </p:blipFill>
        <p:spPr>
          <a:xfrm>
            <a:off x="-252360" y="2852640"/>
            <a:ext cx="4254480" cy="4254480"/>
          </a:xfrm>
          <a:prstGeom prst="rect">
            <a:avLst/>
          </a:prstGeom>
          <a:ln w="0">
            <a:noFill/>
          </a:ln>
        </p:spPr>
      </p:pic>
      <p:grpSp>
        <p:nvGrpSpPr>
          <p:cNvPr id="147" name="Oval Callout 13"/>
          <p:cNvGrpSpPr/>
          <p:nvPr/>
        </p:nvGrpSpPr>
        <p:grpSpPr>
          <a:xfrm>
            <a:off x="2389320" y="1249200"/>
            <a:ext cx="5803920" cy="3426120"/>
            <a:chOff x="2389320" y="1249200"/>
            <a:chExt cx="5803920" cy="3426120"/>
          </a:xfrm>
        </p:grpSpPr>
        <p:pic>
          <p:nvPicPr>
            <p:cNvPr id="148" name="Oval Callout 13" descr=""/>
            <p:cNvPicPr/>
            <p:nvPr/>
          </p:nvPicPr>
          <p:blipFill>
            <a:blip r:embed="rId3"/>
            <a:stretch/>
          </p:blipFill>
          <p:spPr>
            <a:xfrm>
              <a:off x="2389320" y="1249200"/>
              <a:ext cx="5803920" cy="342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3357720" y="1866960"/>
              <a:ext cx="3868560" cy="21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600" spc="-1" strike="noStrike">
                  <a:solidFill>
                    <a:srgbClr val="002060"/>
                  </a:solidFill>
                  <a:latin typeface="Calibri"/>
                </a:rPr>
                <a:t>我們面對的矛盾是</a:t>
              </a:r>
              <a:r>
                <a:rPr b="1" lang="en-US" sz="2600" spc="-1" strike="noStrike">
                  <a:solidFill>
                    <a:srgbClr val="002060"/>
                  </a:solidFill>
                  <a:latin typeface="Calibri"/>
                </a:rPr>
                <a:t>……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206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600" spc="-1" strike="noStrike">
                  <a:solidFill>
                    <a:srgbClr val="002060"/>
                  </a:solidFill>
                  <a:latin typeface="Calibri"/>
                </a:rPr>
                <a:t>技術上界定光度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206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600" spc="-1" strike="noStrike">
                  <a:solidFill>
                    <a:srgbClr val="002060"/>
                  </a:solidFill>
                  <a:latin typeface="Calibri"/>
                </a:rPr>
                <a:t>商界利益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206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600" spc="-1" strike="noStrike">
                  <a:solidFill>
                    <a:srgbClr val="002060"/>
                  </a:solidFill>
                  <a:latin typeface="Calibri"/>
                </a:rPr>
                <a:t>立法需時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206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600" spc="-1" strike="noStrike">
                  <a:solidFill>
                    <a:srgbClr val="002060"/>
                  </a:solidFill>
                  <a:latin typeface="Calibri"/>
                </a:rPr>
                <a:t>輿論壓力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14" descr="http://farm5.static.flickr.com/4013/4386694989_b9408d0e6c_o.jpg"/>
          <p:cNvPicPr/>
          <p:nvPr/>
        </p:nvPicPr>
        <p:blipFill>
          <a:blip r:embed="rId1"/>
          <a:srcRect l="0" t="8742" r="0" b="9762"/>
          <a:stretch/>
        </p:blipFill>
        <p:spPr>
          <a:xfrm>
            <a:off x="569880" y="1628640"/>
            <a:ext cx="3857760" cy="2160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http://www.epochtimes.com/i6/610130808471497.jpg"/>
          <p:cNvPicPr/>
          <p:nvPr/>
        </p:nvPicPr>
        <p:blipFill>
          <a:blip r:embed="rId2"/>
          <a:stretch/>
        </p:blipFill>
        <p:spPr>
          <a:xfrm>
            <a:off x="4643280" y="1339920"/>
            <a:ext cx="3795840" cy="2520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"/>
          <p:cNvPicPr/>
          <p:nvPr/>
        </p:nvPicPr>
        <p:blipFill>
          <a:blip r:embed="rId3"/>
          <a:stretch/>
        </p:blipFill>
        <p:spPr>
          <a:xfrm>
            <a:off x="536400" y="3852720"/>
            <a:ext cx="3681720" cy="27561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http://simg.sina.com.hk/cp/0/0063/6250/2/p.jpg"/>
          <p:cNvPicPr/>
          <p:nvPr/>
        </p:nvPicPr>
        <p:blipFill>
          <a:blip r:embed="rId4"/>
          <a:srcRect l="0" t="0" r="0" b="8390"/>
          <a:stretch/>
        </p:blipFill>
        <p:spPr>
          <a:xfrm>
            <a:off x="4356000" y="3933720"/>
            <a:ext cx="4286520" cy="2592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0" y="3429000"/>
            <a:ext cx="9144000" cy="12952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Calibri"/>
              </a:rPr>
              <a:t>請參考各持份者的意見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Calibri"/>
              </a:rPr>
              <a:t>設計一套可行的法例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144360" y="203040"/>
            <a:ext cx="8891640" cy="1556280"/>
          </a:xfrm>
          <a:prstGeom prst="rect">
            <a:avLst/>
          </a:prstGeom>
          <a:solidFill>
            <a:srgbClr val="00b3f2"/>
          </a:solidFill>
          <a:ln w="57240">
            <a:solidFill>
              <a:srgbClr val="b7de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你認為政府現行規管光污染的措施足夠嗎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如要為管制光污染進行立法，你會如何設計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例，致使各持份者都願意接受此套法例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5E9A5-ACA1-4D72-88A0-53D84655DEA0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193320" y="6501600"/>
            <a:ext cx="50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07640" y="1267920"/>
            <a:ext cx="8891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時間限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libri"/>
              </a:rPr>
              <a:t>合理的關燈時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城市規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libri"/>
              </a:rPr>
              <a:t>在不同區域設立不同標準，如住宅區、郊區及商業區的要求較高，對購物區的要求可降低，以減少光污染對市民及生態的威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技術／金錢支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libri"/>
              </a:rPr>
              <a:t>提供經濟援助予各界更換高能源效益的電燈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libri"/>
              </a:rPr>
              <a:t>提供技術支援，如燈飾的設計（燈罩、照射角度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Content Placeholder 2"/>
          <p:cNvSpPr/>
          <p:nvPr/>
        </p:nvSpPr>
        <p:spPr>
          <a:xfrm>
            <a:off x="395280" y="0"/>
            <a:ext cx="8353440" cy="6922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Calibri"/>
              </a:rPr>
              <a:t>可如何適當地應付問題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FD3AA-1A34-415C-8E25-DF6DDCDD126C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193320" y="6501600"/>
            <a:ext cx="50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765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Calibri"/>
              </a:rPr>
              <a:t>光污染事件中值得反思的地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79280" y="1125000"/>
            <a:ext cx="8715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為了經濟利益，在公共空間製造光污染，犠牲附近居民及生態的利益，反映港人有甚麼價值取向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怎樣才能提升市民的環保意識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立法是否能根治污染問題，為甚麼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甚麼措施才是根治光污染的方法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1858320" y="2637000"/>
            <a:ext cx="5479560" cy="5814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43080"/>
                <a:tab algn="l" pos="45720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關注改變後的成本效益＞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 生態環境的健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ACC85-B1D4-4037-B0A6-EECA84620E3C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193320" y="6501600"/>
            <a:ext cx="50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solidFill>
            <a:srgbClr val="00b3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Calibri"/>
              </a:rPr>
              <a:t>反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95280" y="764640"/>
            <a:ext cx="85694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要改變市民的生活模式輕易嗎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 </a:t>
            </a: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世界的節能措施能否作為香港政府的借鏡，從而有效地推行節能生活呢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971640" y="3470760"/>
            <a:ext cx="763272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343080"/>
                <a:tab algn="l" pos="45720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Arial"/>
              </a:rPr>
              <a:t>請同學分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TW" sz="4000" spc="-1" strike="noStrike">
                <a:solidFill>
                  <a:srgbClr val="ffffff"/>
                </a:solidFill>
                <a:latin typeface="Arial"/>
              </a:rPr>
              <a:t>組，回家搜集世界各地節能措施的資料，並於下一節課進行小組匯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3A0B2-F74A-4D51-B9A9-33079D3D00CD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193320" y="6501600"/>
            <a:ext cx="50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48428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Calibri"/>
              </a:rPr>
              <a:t>尖沙咀高尚住宅名鑄受光污染影響事件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alibri"/>
              </a:rPr>
              <a:t>《光污染趨嚴重 港豪宅業主投訴侵擾》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1</a:t>
            </a:r>
            <a:r>
              <a:rPr b="0" lang="zh-TW" sz="2400" spc="-1" strike="noStrike">
                <a:solidFill>
                  <a:srgbClr val="000000"/>
                </a:solidFill>
                <a:latin typeface="Calibri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Calibri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3</a:t>
            </a:r>
            <a:r>
              <a:rPr b="0" lang="zh-TW" sz="2400" spc="-1" strike="noStrike">
                <a:solidFill>
                  <a:srgbClr val="000000"/>
                </a:solidFill>
                <a:latin typeface="Calibri"/>
              </a:rPr>
              <a:t>日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youtube.com/watch?v=jcXzr4gBrfw&amp;feature=relat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TW" sz="2000" spc="-1" strike="noStrike">
                <a:solidFill>
                  <a:srgbClr val="000000"/>
                </a:solidFill>
                <a:latin typeface="Calibri"/>
              </a:rPr>
              <a:t>（片長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:02</a:t>
            </a:r>
            <a:r>
              <a:rPr b="1" lang="zh-TW" sz="20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4773600" y="3500280"/>
            <a:ext cx="3686040" cy="2708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3"/>
          <a:srcRect l="0" t="0" r="0" b="4077"/>
          <a:stretch/>
        </p:blipFill>
        <p:spPr>
          <a:xfrm>
            <a:off x="814320" y="3500280"/>
            <a:ext cx="3886200" cy="2741760"/>
          </a:xfrm>
          <a:prstGeom prst="rect">
            <a:avLst/>
          </a:prstGeom>
          <a:ln w="0">
            <a:noFill/>
          </a:ln>
        </p:spPr>
      </p:pic>
      <p:sp>
        <p:nvSpPr>
          <p:cNvPr id="56" name="標題 1"/>
          <p:cNvSpPr/>
          <p:nvPr/>
        </p:nvSpPr>
        <p:spPr>
          <a:xfrm>
            <a:off x="468360" y="0"/>
            <a:ext cx="8229600" cy="90792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Calibri"/>
              </a:rPr>
              <a:t>片段帶出了甚麼問題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EF097-83ED-43FD-81B3-E3B87A6719C2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193320" y="6501600"/>
            <a:ext cx="50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Calibri"/>
              </a:rPr>
              <a:t>光污染問題嚴重，卻未有法例監管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8360" y="1197000"/>
            <a:ext cx="8229600" cy="14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Calibri"/>
              </a:rPr>
              <a:t>未有</a:t>
            </a:r>
            <a:r>
              <a:rPr b="1" lang="zh-TW" sz="3000" spc="-1" strike="noStrike">
                <a:solidFill>
                  <a:srgbClr val="ff0000"/>
                </a:solidFill>
                <a:latin typeface="Calibri"/>
              </a:rPr>
              <a:t>環保法例</a:t>
            </a:r>
            <a:r>
              <a:rPr b="1" lang="zh-TW" sz="3000" spc="-1" strike="noStrike">
                <a:solidFill>
                  <a:srgbClr val="000000"/>
                </a:solidFill>
                <a:latin typeface="Calibri"/>
              </a:rPr>
              <a:t>管制招牌的燈光滋擾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Calibri"/>
              </a:rPr>
              <a:t>缺乏監管使</a:t>
            </a:r>
            <a:r>
              <a:rPr b="1" lang="zh-TW" sz="3000" spc="-1" strike="noStrike">
                <a:solidFill>
                  <a:srgbClr val="ff0000"/>
                </a:solidFill>
                <a:latin typeface="Calibri"/>
              </a:rPr>
              <a:t>濫用照明系統</a:t>
            </a:r>
            <a:r>
              <a:rPr b="1" lang="zh-TW" sz="3000" spc="-1" strike="noStrike">
                <a:solidFill>
                  <a:srgbClr val="000000"/>
                </a:solidFill>
                <a:latin typeface="Calibri"/>
              </a:rPr>
              <a:t>的情況愈來愈</a:t>
            </a:r>
            <a:r>
              <a:rPr b="1" lang="zh-TW" sz="3000" spc="-1" strike="noStrike">
                <a:solidFill>
                  <a:srgbClr val="ff0000"/>
                </a:solidFill>
                <a:latin typeface="Calibri"/>
              </a:rPr>
              <a:t>普遍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428760" y="2706840"/>
            <a:ext cx="4929120" cy="3530520"/>
          </a:xfrm>
          <a:prstGeom prst="rect">
            <a:avLst/>
          </a:prstGeom>
          <a:ln w="0">
            <a:noFill/>
          </a:ln>
        </p:spPr>
      </p:pic>
      <p:sp>
        <p:nvSpPr>
          <p:cNvPr id="62" name="矩形 4"/>
          <p:cNvSpPr/>
          <p:nvPr/>
        </p:nvSpPr>
        <p:spPr>
          <a:xfrm>
            <a:off x="5263560" y="5732640"/>
            <a:ext cx="261900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未有光污染相關的法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6"/>
          <p:cNvSpPr/>
          <p:nvPr/>
        </p:nvSpPr>
        <p:spPr>
          <a:xfrm>
            <a:off x="5219640" y="2637000"/>
            <a:ext cx="3743280" cy="2016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Calibri"/>
              </a:rPr>
              <a:t>為甚麼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69DB7-FD73-4678-AE16-F6C88651C0B6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193320" y="6501600"/>
            <a:ext cx="50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ttp://www.echoband.com/wp-content/uploads/2009/03/gp_logo02.jpg"/>
          <p:cNvPicPr/>
          <p:nvPr/>
        </p:nvPicPr>
        <p:blipFill>
          <a:blip r:embed="rId1"/>
          <a:stretch/>
        </p:blipFill>
        <p:spPr>
          <a:xfrm>
            <a:off x="3419640" y="2924280"/>
            <a:ext cx="2952720" cy="1116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Calibri"/>
              </a:rPr>
              <a:t>應否立例管制光污染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94920" y="620640"/>
            <a:ext cx="828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小組討論（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5</a:t>
            </a: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分鐘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libri"/>
              </a:rPr>
              <a:t>四個持份者：工商界、環團、居民、政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libri"/>
              </a:rPr>
              <a:t>請參考資料，找出各持份者對立法管制光污染的立場及背後理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10" descr="http://upload.wikimedia.org/wikipedia/zh/thumb/c/cd/Environmental_Protection_Department_HK.svg/200px-Environmental_Protection_Department_HK.svg.png"/>
          <p:cNvPicPr/>
          <p:nvPr/>
        </p:nvPicPr>
        <p:blipFill>
          <a:blip r:embed="rId2"/>
          <a:stretch/>
        </p:blipFill>
        <p:spPr>
          <a:xfrm>
            <a:off x="6843600" y="4908600"/>
            <a:ext cx="1616040" cy="1616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http://3.bp.blogspot.com/_gFb_hbEHGUg/SSThE7ONIUI/AAAAAAAAABo/aR6GG9EqOnw/S220/FOE_bilingual.jpg"/>
          <p:cNvPicPr/>
          <p:nvPr/>
        </p:nvPicPr>
        <p:blipFill>
          <a:blip r:embed="rId3"/>
          <a:stretch/>
        </p:blipFill>
        <p:spPr>
          <a:xfrm>
            <a:off x="6554880" y="2701800"/>
            <a:ext cx="2193840" cy="1735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http://www.foe.org.hk/uploaded_files/18042008/case10.jpg"/>
          <p:cNvPicPr/>
          <p:nvPr/>
        </p:nvPicPr>
        <p:blipFill>
          <a:blip r:embed="rId4"/>
          <a:stretch/>
        </p:blipFill>
        <p:spPr>
          <a:xfrm>
            <a:off x="3470400" y="4149720"/>
            <a:ext cx="3117600" cy="2351160"/>
          </a:xfrm>
          <a:prstGeom prst="rect">
            <a:avLst/>
          </a:prstGeom>
          <a:ln w="0">
            <a:noFill/>
          </a:ln>
        </p:spPr>
      </p:pic>
      <p:pic>
        <p:nvPicPr>
          <p:cNvPr id="72" name="圖片 9" descr="http://images.fineartamerica.com/images-medium/hong-kong-street-view-kam-chuen-dung.jpg"/>
          <p:cNvPicPr/>
          <p:nvPr/>
        </p:nvPicPr>
        <p:blipFill>
          <a:blip r:embed="rId5"/>
          <a:stretch/>
        </p:blipFill>
        <p:spPr>
          <a:xfrm>
            <a:off x="250920" y="3284640"/>
            <a:ext cx="3097080" cy="2232000"/>
          </a:xfrm>
          <a:prstGeom prst="rect">
            <a:avLst/>
          </a:prstGeom>
          <a:ln w="0">
            <a:noFill/>
          </a:ln>
        </p:spPr>
      </p:pic>
      <p:sp>
        <p:nvSpPr>
          <p:cNvPr id="73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1A96F-B28E-45F8-ABB7-C9DBAC51528B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193320" y="6501600"/>
            <a:ext cx="50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4"/>
          <p:cNvSpPr/>
          <p:nvPr/>
        </p:nvSpPr>
        <p:spPr>
          <a:xfrm>
            <a:off x="900000" y="2395440"/>
            <a:ext cx="2449800" cy="1423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資料一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香港璀璨夜景旅業帶動發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900" spc="-1" strike="noStrike">
                <a:solidFill>
                  <a:srgbClr val="000000"/>
                </a:solidFill>
                <a:latin typeface="Arial"/>
              </a:rPr>
              <a:t>本港一向被譽為「東方之珠」，其璀璨的夜景享譽全球。旅遊業為香港帶來可觀收入，而與香港夜景相關的地點及活動一向受到遊客歡迎，當中「幻彩詠香江」更被列入「健力士世界紀錄大全」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itle 1"/>
          <p:cNvSpPr/>
          <p:nvPr/>
        </p:nvSpPr>
        <p:spPr>
          <a:xfrm>
            <a:off x="468360" y="0"/>
            <a:ext cx="8229600" cy="549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Calibri"/>
              </a:rPr>
              <a:t>應否立例管制光污染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50920" y="549000"/>
            <a:ext cx="864216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0000"/>
                </a:solidFill>
                <a:latin typeface="Calibri"/>
              </a:rPr>
              <a:t>工商界的立場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Calibri"/>
              </a:rPr>
              <a:t>你能根據資料一和二，指出廣告燈箱／璀璨燈飾夜景與香港經濟利益之間的關係嗎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Calibri"/>
              </a:rPr>
              <a:t>由此推斷，你認為工商界對「應否立例管制光污染？」這議題持甚麼立場？為甚麼？</a:t>
            </a:r>
            <a:r>
              <a:rPr b="1" lang="zh-TW" sz="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13"/>
          <p:cNvSpPr/>
          <p:nvPr/>
        </p:nvSpPr>
        <p:spPr>
          <a:xfrm>
            <a:off x="3492360" y="2100240"/>
            <a:ext cx="5472360" cy="1135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Arial"/>
              </a:rPr>
              <a:t>資料二：愈來愈光拜自由行所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各店舖利用招牌「鬥光」，尤其部分以個人遊為主要客源的店舖，更傾向通宵達旦燈火通明。商號為吸引內地客的眼球，無不絞盡腦汁，紛紛推出「慌死你睇唔到」的強光，甚或閃動招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在深夜時分，冰冷的街頭，要吸引街外食客入內光顧，除了食物本身傳出的陣陣香味之外，依靠的便是遠遠就可望見的七彩招牌。而且，店內燈火通明，是正常食肆的基本條件；若店內烏燈黑火，即使食物如何美味，怕亦難招徠顧客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本港稱為東方之珠，不少的世界級品牌為了營造超凡的感覺，即使在深夜店舖關門以後，其店外的廣告燈箱仍舊大放異彩。若不這樣，尊貴的品牌又如何能襯托出榮華的感覺？花園道中國工商銀行的招牌，光度嚴重影響附近居民入睡，居民遂去信銀行投訴，但銀行卻以「香港是金融中心」為由拒絕熄燈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826920" y="5970600"/>
            <a:ext cx="252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資料來源：《文匯報 》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9/11/2010</a:t>
            </a: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《香港經濟日報》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7/1/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（資料經過剪輯）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3419640" y="6269040"/>
            <a:ext cx="5545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資料來源：《文匯報》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/4/2009</a:t>
            </a: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5/5/2009</a:t>
            </a: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、《星島日報》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/10/2010</a:t>
            </a: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、《東方日報》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/9/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（資料經過剪輯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6FDD6-3ADB-4F21-8E90-ABAF6A5F564B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193320" y="6501600"/>
            <a:ext cx="50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D:\Temp\Temporary Internet Files\Content.IE5\112FSDST\MC900355445[1].wmf"/>
          <p:cNvPicPr/>
          <p:nvPr/>
        </p:nvPicPr>
        <p:blipFill>
          <a:blip r:embed="rId1"/>
          <a:stretch/>
        </p:blipFill>
        <p:spPr>
          <a:xfrm>
            <a:off x="6227640" y="3068640"/>
            <a:ext cx="1998720" cy="2817720"/>
          </a:xfrm>
          <a:prstGeom prst="rect">
            <a:avLst/>
          </a:prstGeom>
          <a:ln w="0">
            <a:noFill/>
          </a:ln>
        </p:spPr>
      </p:pic>
      <p:sp>
        <p:nvSpPr>
          <p:cNvPr id="84" name="Rectangular Callout 11"/>
          <p:cNvSpPr/>
          <p:nvPr/>
        </p:nvSpPr>
        <p:spPr>
          <a:xfrm>
            <a:off x="826920" y="1700280"/>
            <a:ext cx="5329440" cy="2665440"/>
          </a:xfrm>
          <a:prstGeom prst="wedgeRectCallout">
            <a:avLst>
              <a:gd name="adj1" fmla="val 53379"/>
              <a:gd name="adj2" fmla="val 65384"/>
            </a:avLst>
          </a:prstGeom>
          <a:solidFill>
            <a:srgbClr val="e46c0a"/>
          </a:solidFill>
          <a:ln w="25560">
            <a:solidFill>
              <a:srgbClr val="984807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ffff"/>
                </a:solidFill>
                <a:latin typeface="Calibri"/>
              </a:rPr>
              <a:t>反對立例，因為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ffff"/>
                </a:solidFill>
                <a:latin typeface="Calibri"/>
              </a:rPr>
              <a:t>損害香港大都會東方之珠的形象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ffff"/>
                </a:solidFill>
                <a:latin typeface="Calibri"/>
              </a:rPr>
              <a:t>影響客人的招徠，導致營業額下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193320" y="6501600"/>
            <a:ext cx="50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79280" y="1125000"/>
            <a:ext cx="878544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Calibri"/>
              </a:rPr>
              <a:t>你能從資料一和二推斷出影響店舖營業額的主要因素嗎？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Calibri"/>
              </a:rPr>
              <a:t>管制燈光與經濟利益之間是否必然存在衝突？為甚麼？試利用以下資料加以解釋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Chart 3" descr=""/>
          <p:cNvPicPr/>
          <p:nvPr/>
        </p:nvPicPr>
        <p:blipFill>
          <a:blip r:embed="rId1"/>
          <a:stretch/>
        </p:blipFill>
        <p:spPr>
          <a:xfrm>
            <a:off x="237960" y="3054240"/>
            <a:ext cx="4492800" cy="3291120"/>
          </a:xfrm>
          <a:prstGeom prst="rect">
            <a:avLst/>
          </a:prstGeom>
          <a:ln w="0">
            <a:noFill/>
          </a:ln>
        </p:spPr>
      </p:pic>
      <p:sp>
        <p:nvSpPr>
          <p:cNvPr id="88" name="Title 1"/>
          <p:cNvSpPr/>
          <p:nvPr/>
        </p:nvSpPr>
        <p:spPr>
          <a:xfrm>
            <a:off x="468360" y="0"/>
            <a:ext cx="8229600" cy="549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Calibri"/>
              </a:rPr>
              <a:t>應否立例管制光污染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577800" y="5493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Calibri"/>
              </a:rPr>
              <a:t>環團的立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5"/>
          <p:cNvSpPr/>
          <p:nvPr/>
        </p:nvSpPr>
        <p:spPr>
          <a:xfrm>
            <a:off x="150840" y="2360520"/>
            <a:ext cx="470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資料一：內地旅客接收香港旅遊資訊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主要來源（人數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"/>
          <p:cNvSpPr/>
          <p:nvPr/>
        </p:nvSpPr>
        <p:spPr>
          <a:xfrm>
            <a:off x="4859280" y="3886920"/>
            <a:ext cx="4033800" cy="100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Calibri"/>
                <a:ea typeface="新細明體"/>
              </a:rPr>
              <a:t>資料二：強光廣告射夜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新細明體"/>
              </a:rPr>
              <a:t>          </a:t>
            </a:r>
            <a:r>
              <a:rPr b="0" lang="zh-TW" sz="1900" spc="-1" strike="noStrike">
                <a:solidFill>
                  <a:srgbClr val="000000"/>
                </a:solidFill>
                <a:latin typeface="Calibri"/>
                <a:ea typeface="新細明體"/>
              </a:rPr>
              <a:t>彌敦道平安大廈外牆月前豎起了一個光污染新地標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新細明體"/>
              </a:rPr>
              <a:t>——</a:t>
            </a:r>
            <a:r>
              <a:rPr b="0" lang="zh-TW" sz="1900" spc="-1" strike="noStrike">
                <a:solidFill>
                  <a:srgbClr val="000000"/>
                </a:solidFill>
                <a:latin typeface="Calibri"/>
                <a:ea typeface="新細明體"/>
              </a:rPr>
              <a:t>卓悅化妝。這家以內地客為主要客路的商鋪，萬萬沒料到連自由行客人，也受不了它的強光，去信地球之友投訴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900" spc="-1" strike="noStrike">
                <a:solidFill>
                  <a:srgbClr val="000000"/>
                </a:solidFill>
                <a:latin typeface="Calibri"/>
                <a:ea typeface="新細明體"/>
              </a:rPr>
              <a:t>          </a:t>
            </a:r>
            <a:r>
              <a:rPr b="0" lang="zh-TW" sz="1900" spc="-1" strike="noStrike">
                <a:solidFill>
                  <a:srgbClr val="000000"/>
                </a:solidFill>
                <a:latin typeface="Calibri"/>
                <a:ea typeface="新細明體"/>
              </a:rPr>
              <a:t>投訴人如是說：「我不知道香港人是不是覺得電費便宜還是嫌夏天不夠熱，各種燈光看板將街頭照得發燙，甚至有些小門面掛五個看板，不僅乏味無趣，而且令人生厭。難道大家就習以為常，或者認為這就是商業社會的標誌嗎？」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8"/>
          <p:cNvSpPr/>
          <p:nvPr/>
        </p:nvSpPr>
        <p:spPr>
          <a:xfrm>
            <a:off x="4789440" y="6350040"/>
            <a:ext cx="30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資料來源：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星島日報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/10/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474840" y="6308640"/>
            <a:ext cx="143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資料來源：尼爾森公司（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10</a:t>
            </a: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Callout 6"/>
          <p:cNvSpPr/>
          <p:nvPr/>
        </p:nvSpPr>
        <p:spPr>
          <a:xfrm>
            <a:off x="3132000" y="2781360"/>
            <a:ext cx="3672000" cy="2233440"/>
          </a:xfrm>
          <a:prstGeom prst="wedgeEllipse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Calibri"/>
              </a:rPr>
              <a:t>要長遠吸引和留住顧客，店舖應從哪方面入手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46BBA-BBE9-4DE5-ABCB-5E6E1893B766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250920" y="3024360"/>
            <a:ext cx="8569080" cy="113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資料三：環團調查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％人對星空失蹤感麻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地球之友訪問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名市民，發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65%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受訪者原來「從未」或「甚少」在港見過繁星流動的景象。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62%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受訪者認為不值得因經濟發展而犧牲星空，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8%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則表示同意。至於在郊外設立星空保護區，讓公眾可以在無光害環境下觀星，有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81%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人表示支持。地球之友環境事務經理表示，香港已因為空氣污染而失去藍天，港人若再漠視光污染，擔心連星空也會失去，小朋友日後只能透過書本「紙上談星」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443520" y="5516640"/>
            <a:ext cx="17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Arial"/>
              </a:rPr>
              <a:t>資料來源：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TW" sz="1200" spc="-1" strike="noStrike">
                <a:solidFill>
                  <a:srgbClr val="000000"/>
                </a:solidFill>
                <a:latin typeface="Arial"/>
              </a:rPr>
              <a:t>明報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》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8/3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itle 1"/>
          <p:cNvSpPr/>
          <p:nvPr/>
        </p:nvSpPr>
        <p:spPr>
          <a:xfrm>
            <a:off x="468360" y="0"/>
            <a:ext cx="8229600" cy="549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Calibri"/>
              </a:rPr>
              <a:t>應否立例管制光污染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577800" y="5493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Calibri"/>
              </a:rPr>
              <a:t>環團的立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58400" y="1168200"/>
            <a:ext cx="8985240" cy="15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24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Calibri"/>
              </a:rPr>
              <a:t>過量燈光會對環境造成甚麼影響？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24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Calibri"/>
              </a:rPr>
              <a:t>綜合資料一至三，你認為環團對「應否立例管制光污染？」這議題持甚麼立場？為甚麼？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28500-E869-4DF1-AF3D-37471BD3390E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193320" y="6501600"/>
            <a:ext cx="50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1" descr="D:\Temp\Temporary Internet Files\Content.IE5\RLX6TVFQ\MC900238081[1].wmf"/>
          <p:cNvPicPr/>
          <p:nvPr/>
        </p:nvPicPr>
        <p:blipFill>
          <a:blip r:embed="rId1"/>
          <a:stretch/>
        </p:blipFill>
        <p:spPr>
          <a:xfrm flipH="1">
            <a:off x="684000" y="2924280"/>
            <a:ext cx="2663640" cy="3097080"/>
          </a:xfrm>
          <a:prstGeom prst="rect">
            <a:avLst/>
          </a:prstGeom>
          <a:ln w="0">
            <a:noFill/>
          </a:ln>
        </p:spPr>
      </p:pic>
      <p:grpSp>
        <p:nvGrpSpPr>
          <p:cNvPr id="105" name="Rounded Rectangular Callout 12"/>
          <p:cNvGrpSpPr/>
          <p:nvPr/>
        </p:nvGrpSpPr>
        <p:grpSpPr>
          <a:xfrm>
            <a:off x="3316320" y="1090440"/>
            <a:ext cx="5394240" cy="4249800"/>
            <a:chOff x="3316320" y="1090440"/>
            <a:chExt cx="5394240" cy="4249800"/>
          </a:xfrm>
        </p:grpSpPr>
        <p:pic>
          <p:nvPicPr>
            <p:cNvPr id="106" name="Rounded Rectangular Callout 12" descr=""/>
            <p:cNvPicPr/>
            <p:nvPr/>
          </p:nvPicPr>
          <p:blipFill>
            <a:blip r:embed="rId2"/>
            <a:stretch/>
          </p:blipFill>
          <p:spPr>
            <a:xfrm>
              <a:off x="3316320" y="1090440"/>
              <a:ext cx="5394240" cy="424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722760" y="1498680"/>
              <a:ext cx="4579920" cy="29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600" spc="-1" strike="noStrike">
                  <a:solidFill>
                    <a:srgbClr val="ffffff"/>
                  </a:solidFill>
                  <a:latin typeface="Calibri"/>
                </a:rPr>
                <a:t>支持立例，因為：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600" spc="-1" strike="noStrike">
                  <a:solidFill>
                    <a:srgbClr val="ffffff"/>
                  </a:solidFill>
                  <a:latin typeface="Calibri"/>
                </a:rPr>
                <a:t>燈光廣告非主要招徠營業額的主因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600" spc="-1" strike="noStrike">
                  <a:solidFill>
                    <a:srgbClr val="ffffff"/>
                  </a:solidFill>
                  <a:latin typeface="Calibri"/>
                </a:rPr>
                <a:t>店舖口碑重於廣告燈箱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600" spc="-1" strike="noStrike">
                  <a:solidFill>
                    <a:srgbClr val="ffffff"/>
                  </a:solidFill>
                  <a:latin typeface="Calibri"/>
                </a:rPr>
                <a:t>保育星空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600" spc="-1" strike="noStrike">
                  <a:solidFill>
                    <a:srgbClr val="ffffff"/>
                  </a:solidFill>
                  <a:latin typeface="Calibri"/>
                </a:rPr>
                <a:t>減低發電需要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600" spc="-1" strike="noStrike">
                  <a:solidFill>
                    <a:srgbClr val="ffffff"/>
                  </a:solidFill>
                  <a:latin typeface="Calibri"/>
                </a:rPr>
                <a:t>紓緩全球暖化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5219640" y="2997360"/>
            <a:ext cx="3816360" cy="2336760"/>
          </a:xfrm>
          <a:prstGeom prst="rect">
            <a:avLst/>
          </a:prstGeom>
          <a:ln w="0">
            <a:noFill/>
          </a:ln>
        </p:spPr>
      </p:pic>
      <p:sp>
        <p:nvSpPr>
          <p:cNvPr id="109" name="Title 1"/>
          <p:cNvSpPr/>
          <p:nvPr/>
        </p:nvSpPr>
        <p:spPr>
          <a:xfrm>
            <a:off x="468360" y="0"/>
            <a:ext cx="8229600" cy="549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Calibri"/>
              </a:rPr>
              <a:t>應否立例管制光污染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577800" y="5493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Calibri"/>
              </a:rPr>
              <a:t>居民的立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8000" y="1197000"/>
            <a:ext cx="89647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TW" sz="2500" spc="-1" strike="noStrike">
                <a:solidFill>
                  <a:srgbClr val="000000"/>
                </a:solidFill>
                <a:latin typeface="Calibri"/>
              </a:rPr>
              <a:t>根據資料一和二，評論居民處理光滋擾的方法，並作解釋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文字方塊 7"/>
          <p:cNvSpPr/>
          <p:nvPr/>
        </p:nvSpPr>
        <p:spPr>
          <a:xfrm>
            <a:off x="6510960" y="5589720"/>
            <a:ext cx="100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Arial"/>
              </a:rPr>
              <a:t>資料來源：地球之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7"/>
          <p:cNvSpPr/>
          <p:nvPr/>
        </p:nvSpPr>
        <p:spPr>
          <a:xfrm>
            <a:off x="179280" y="1700280"/>
            <a:ext cx="5040360" cy="122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資料一：光污染投訴大增　受擾住戶逃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深水白田村丘女士一家亦受到遠處街燈的光滋擾。夏天時候，丘女士為了節省冷氣費，收起窗簾以助通風，一家四口睡在客廳，但屋外的街燈，光線直射客廳，令丘女士一家無法睡好，用眼罩又太熱；長期睡不好，令她病痛纏身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銅鑼灣的晚上燈光恍如白天，有居民居於被大型燈光廣告牌遮蔽的單位，投訴聞到「燒焦味」，擔心長時間開放的強光會引致火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大圍一幢舊樓的大廈業主，反對餐廳豎起閃動招牌，指有住戶因此神經衰弱，有住戶更自發採取抗議行動，將橫額張貼在招牌上以示抗議。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個單位的住戶則選擇搬家「逃亡」，至今招牌仍然閃耀，居民苦無對策。受影響的劉先生曾向環保署投訴，但換來冷淡對待，「時聯絡過政府，佢居然話冇法例管制，處理唔到！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8"/>
          <p:cNvSpPr/>
          <p:nvPr/>
        </p:nvSpPr>
        <p:spPr>
          <a:xfrm>
            <a:off x="5949720" y="256536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資料二：居民處理光污染的方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字方塊 3"/>
          <p:cNvSpPr/>
          <p:nvPr/>
        </p:nvSpPr>
        <p:spPr>
          <a:xfrm>
            <a:off x="106200" y="6237360"/>
            <a:ext cx="698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Arial"/>
              </a:rPr>
              <a:t>資料來源：明報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1/4/2008</a:t>
            </a:r>
            <a:r>
              <a:rPr b="1" lang="zh-TW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TW" sz="1200" spc="-1" strike="noStrike">
                <a:solidFill>
                  <a:srgbClr val="000000"/>
                </a:solidFill>
                <a:latin typeface="Arial"/>
              </a:rPr>
              <a:t>、《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730</a:t>
            </a:r>
            <a:r>
              <a:rPr b="1" lang="zh-TW" sz="1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7/8/2012</a:t>
            </a:r>
            <a:r>
              <a:rPr b="1" lang="zh-TW" sz="1200" spc="-1" strike="noStrike">
                <a:solidFill>
                  <a:srgbClr val="000000"/>
                </a:solidFill>
                <a:latin typeface="Arial"/>
              </a:rPr>
              <a:t>、《東方日報》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/9/2012 </a:t>
            </a:r>
            <a:r>
              <a:rPr b="1" lang="zh-TW" sz="1200" spc="-1" strike="noStrike">
                <a:solidFill>
                  <a:srgbClr val="000000"/>
                </a:solidFill>
                <a:latin typeface="Arial"/>
              </a:rPr>
              <a:t>（資料經過剪輯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2E28D-4E89-4D16-B83C-0A5CB4EF716C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193320" y="6501600"/>
            <a:ext cx="50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itle 1"/>
          <p:cNvSpPr/>
          <p:nvPr/>
        </p:nvSpPr>
        <p:spPr>
          <a:xfrm>
            <a:off x="468360" y="0"/>
            <a:ext cx="8229600" cy="549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Calibri"/>
              </a:rPr>
              <a:t>應否立例管制光污染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577800" y="5508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Calibri"/>
              </a:rPr>
              <a:t>居民的立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39640" y="2949480"/>
            <a:ext cx="8064720" cy="703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100" spc="-1" strike="noStrike">
                <a:solidFill>
                  <a:srgbClr val="000000"/>
                </a:solidFill>
                <a:latin typeface="Arial"/>
              </a:rPr>
              <a:t>資料三：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ED</a:t>
            </a:r>
            <a:r>
              <a:rPr b="1" lang="zh-TW" sz="2100" spc="-1" strike="noStrike">
                <a:solidFill>
                  <a:srgbClr val="000000"/>
                </a:solidFill>
                <a:latin typeface="Arial"/>
              </a:rPr>
              <a:t>招牌「匯演」　居民無覺好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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執業眼科醫生指，若夜間被光線照射，會擾亂腦部松果體識辨日夜的功能，影響生理時鐘。他指，招牌長期極速閃動，例如閃頻超過每秒五十次，人類眼睛便不能察覺物體的閃動，但眼睛已在不自覺地被傷害，會導致疲勞綜合症，更有機會誘發癲癇症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8"/>
          <p:cNvSpPr/>
          <p:nvPr/>
        </p:nvSpPr>
        <p:spPr>
          <a:xfrm>
            <a:off x="869040" y="4581360"/>
            <a:ext cx="18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Arial"/>
              </a:rPr>
              <a:t>資料來源：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TW" sz="1200" spc="-1" strike="noStrike">
                <a:solidFill>
                  <a:srgbClr val="000000"/>
                </a:solidFill>
                <a:latin typeface="Arial"/>
              </a:rPr>
              <a:t>東方日報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》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/9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7640" y="1125000"/>
            <a:ext cx="878508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TW" sz="2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TW" sz="2500" spc="-1" strike="noStrike">
                <a:solidFill>
                  <a:srgbClr val="000000"/>
                </a:solidFill>
                <a:latin typeface="Calibri"/>
              </a:rPr>
              <a:t>身體經常被強光照射會有何影響？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3.  </a:t>
            </a:r>
            <a:r>
              <a:rPr b="1" lang="zh-TW" sz="2500" spc="-1" strike="noStrike">
                <a:solidFill>
                  <a:srgbClr val="000000"/>
                </a:solidFill>
                <a:latin typeface="Calibri"/>
              </a:rPr>
              <a:t>綜合以上資料，你認為居民對「應否立例管制光污染？」這議題持甚麼立場？為甚麼？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A727A-9215-41F6-B800-7EF89B0DE10C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193320" y="6501600"/>
            <a:ext cx="50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0" descr="D:\Temp\Temporary Internet Files\Content.IE5\V5KRKJ8E\MC900040006[1].wmf"/>
          <p:cNvPicPr/>
          <p:nvPr/>
        </p:nvPicPr>
        <p:blipFill>
          <a:blip r:embed="rId1"/>
          <a:stretch/>
        </p:blipFill>
        <p:spPr>
          <a:xfrm>
            <a:off x="5724360" y="2781360"/>
            <a:ext cx="2880000" cy="3112920"/>
          </a:xfrm>
          <a:prstGeom prst="rect">
            <a:avLst/>
          </a:prstGeom>
          <a:ln w="0">
            <a:noFill/>
          </a:ln>
        </p:spPr>
      </p:pic>
      <p:sp>
        <p:nvSpPr>
          <p:cNvPr id="126" name="Oval Callout 20"/>
          <p:cNvSpPr/>
          <p:nvPr/>
        </p:nvSpPr>
        <p:spPr>
          <a:xfrm>
            <a:off x="468360" y="1773360"/>
            <a:ext cx="5219640" cy="2808000"/>
          </a:xfrm>
          <a:prstGeom prst="wedgeEllipseCallout">
            <a:avLst>
              <a:gd name="adj1" fmla="val 47259"/>
              <a:gd name="adj2" fmla="val 4713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ffff"/>
                </a:solidFill>
                <a:latin typeface="Calibri"/>
              </a:rPr>
              <a:t>支持立例，因為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ffff"/>
                </a:solidFill>
                <a:latin typeface="Calibri"/>
              </a:rPr>
              <a:t>苦無對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ffff"/>
                </a:solidFill>
                <a:latin typeface="Calibri"/>
              </a:rPr>
              <a:t>光污染破壞生理時鐘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ffff"/>
                </a:solidFill>
                <a:latin typeface="Calibri"/>
              </a:rPr>
              <a:t>精神衰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3T09:33:30Z</dcterms:created>
  <dc:creator>HKIEd</dc:creator>
  <dc:description/>
  <dc:language>en-US</dc:language>
  <cp:lastModifiedBy>HKIEd</cp:lastModifiedBy>
  <dcterms:modified xsi:type="dcterms:W3CDTF">2013-05-14T06:22:46Z</dcterms:modified>
  <cp:revision>243</cp:revision>
  <dc:subject/>
  <dc:title>課節三</dc:title>
</cp:coreProperties>
</file>