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693-632C-4A1B-9165-328EEAA1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BC6-C05B-4ED8-9D07-E12DF04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104-3FE5-4327-8D9E-89F2067E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E3E-5B9C-4865-A341-BC9C01E3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863F-BCA8-4E97-9F79-DA957DF1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3AC4-F136-4E0B-98B0-4833D3A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6F27-CE66-43CE-BC2C-8318FD39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9210-0C94-414F-B574-56F6F38B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DA80-9F08-420D-B27D-17DD426F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732B-F49A-4D46-88D6-3314171D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9DD5-26C8-4012-981C-9F2116D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9D7-3A96-49EF-98A4-BBABC70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D310-E8DF-472C-B3D3-8DF9842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5B82-D2CB-4D51-AF40-C55EAF7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2B5B-FA1E-45E4-A9B2-05CCEAC0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0B2-11F7-44FE-BF49-AAE3B0B3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23AB-6ABF-4AC6-B116-4289B8F3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3338-B180-4DB7-90A8-F5A9B2DC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3C7C-4BAA-4653-8965-8B43C323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73B6-3A3C-432C-92C9-91D12FFB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279B-7F22-49E9-B3C6-BC787AF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B607-459B-4845-96D1-8DD5D4E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AB6-6620-44F0-83AD-C84D8455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2D73-A076-48A3-90F0-3EBB24B3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3FF6-F6F9-4972-BCFF-506CF49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FFBD-0AEE-41C7-A9DF-12EF47D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3556-CBBC-4A6A-9240-541A694C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19F3-0F7E-489A-B6EF-A678CFE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2878-CC3C-4593-9A1C-9E53554E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595F-0A62-4BFF-B850-EC2014DB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A80E-067F-472B-9E39-32005754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50E8-C349-44D5-907C-1271DE6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ADAD-173C-4C9C-87F9-B05E70A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696-608C-4126-9BFE-F6F485FC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0E12-5BB0-4D98-90A0-5E90E41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E4A8-50EC-493B-ADCD-DE1875C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1D04-316F-41B0-9FC8-0EFAB07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9373-7E72-4020-9557-3CFFEE8A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08C0-F59B-48D8-A32B-6A156446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71BA-2804-44F8-8AC6-FD77642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839F-8935-4E9A-AF98-19734985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A271-9DA2-4133-8365-6B60551A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6837-F412-47A4-8BF8-AC142656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6C5C-C224-4627-93A0-1E22093F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0B1-DE97-45D1-859C-596B768C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30BE-65E9-41B5-A56C-EAAB03C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F6D3-1975-406B-A7BB-59D5CB0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F151-E360-435E-85C4-92B3AFA6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1E546-D61A-44F4-9D60-A125EC5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D71F-E91A-4B58-9166-08C9CDF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3D6C-BCFF-44A0-849D-DA8FB1F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B9E8-5D10-4832-9092-EFA8D1A7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108E-0245-44D0-B7C6-09EF51E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13CF-541A-430D-811A-59859A06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F7CF-7AC0-42F1-8991-1768E68C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B93-F214-4F23-A479-EACCC30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B3AC4-20C8-4B59-88DB-FD62A31D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59B0D-5A34-4AC1-9592-BB739A2E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2EB27-30DF-4387-9E5D-588DA56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9EFC9-296E-44A2-BF79-C5BA77E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0BD1-63CE-455E-9202-F15F0C5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2C941-4688-4413-9FC0-0905054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84FE8-228B-403C-B00E-DCD1A283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65B05-F2C9-4135-A232-419440C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515E-E035-4312-82A3-ED5F668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FD91-F333-4E74-8B2D-32EA223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331-00B6-4D13-A2A9-B5A7157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2CDDA-0344-45BB-9EA9-7EC7BEF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8C01-93A4-4BB8-99CD-483989AB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9F0B-A9E2-4A00-BE25-F997CAAF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8E53-73B0-4CD2-A9C8-5EBB77FA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56EE-1A33-4399-9B8B-21E26F42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3F1A8-6BF6-4D25-98D6-30FDD09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EB0C1-7765-4DFE-B744-B0FB8AC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E5C59-F1D7-4752-9EDE-67871BF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163BA-80EC-42F6-B15F-98D9F1BF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D8729-3EC6-41AD-B163-AF51D376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2E9-D0EB-4C58-9B01-87CBA86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19E44-F4A8-4DAB-9622-02173DC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D427D-1B80-4A87-9F3D-4E9221B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0998-076A-42B8-8A0F-317CD70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5B89A-2827-4AA2-9492-2638BA9F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720C-CD09-4A84-ADA7-E9B9B6A9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FCC77-DC3C-4411-BC5D-F1F6A715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CE8B-79AF-46DF-BE01-8B97CEC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090D-1A4B-492E-989E-2751B38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CA88-AC31-4C9F-A16A-E22590E1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672C-4798-40E3-9ADA-AA7F48B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52D-CCB6-47EA-B6F7-8641931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32C7D-FF35-4BBD-B059-E70455D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13F1-7584-4116-9C23-2B96DE2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89AFA-6DE3-4127-B404-35494800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6A58-3938-4D26-8191-247FA93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221F-35A9-4FE3-BD68-C652B40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FFFC3-EC70-4E2C-88B6-6FE7DA0C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8F2C3-E532-432D-A1C3-3B1C5BEE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7A4F-2121-4F5F-8E8F-766911650DE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577B-4F90-4184-AF40-9784ED37A61A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66B-3398-4E06-861E-EA471BB7AA9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56C9-3989-48E9-87B1-76A504E08E9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C71-2818-4735-BA09-7C83D61F6E1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4396-B6EA-4497-AA8E-691BBFD7EFD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FB5-A224-4A13-BE73-D1A2621642D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D0F-11AB-459B-A51A-1FCE47D0C082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xphoOOwTbo" TargetMode="External"/><Relationship Id="rId2" Type="http://schemas.openxmlformats.org/officeDocument/2006/relationships/hyperlink" Target="http://www.youtube.com/watch?v=gxphoOOwTbo" TargetMode="External"/><Relationship Id="rId3" Type="http://schemas.openxmlformats.org/officeDocument/2006/relationships/hyperlink" Target="http://www.youtube.com/watch?v=gxphoOOwTbo" TargetMode="External"/><Relationship Id="rId4" Type="http://schemas.openxmlformats.org/officeDocument/2006/relationships/hyperlink" Target="http://www.youtube.com/watch?v=gxphoOOwTbo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822240" y="469800"/>
            <a:ext cx="7785360" cy="2925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香港教育學院</a:t>
            </a:r>
            <a:br>
              <a:rPr sz="3700"/>
            </a:b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幼兒教育學院</a:t>
            </a:r>
            <a:br>
              <a:rPr sz="3700"/>
            </a:br>
            <a:r>
              <a:rPr b="0" lang="en-US" sz="3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幼兒教育高級文憑課程</a:t>
            </a:r>
            <a:r>
              <a:rPr b="0" lang="en-US" sz="37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兩年全日制</a:t>
            </a:r>
            <a:r>
              <a:rPr b="0" lang="en-US" sz="3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br>
              <a:rPr sz="3700"/>
            </a:br>
            <a:r>
              <a:rPr b="0" lang="en-US" sz="3700" spc="-1" strike="noStrike">
                <a:solidFill>
                  <a:srgbClr val="464646"/>
                </a:solidFill>
                <a:latin typeface="Lucida Sans Unicode"/>
              </a:rPr>
              <a:t>2012-2013</a:t>
            </a: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年度第一學年</a:t>
            </a:r>
            <a:r>
              <a:rPr b="0" lang="en-US" sz="37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下學期</a:t>
            </a:r>
            <a:r>
              <a:rPr b="0" lang="en-US" sz="3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資訊及通訊科技之應用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小組滙報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4646"/>
                </a:solidFill>
                <a:latin typeface="Lucida Sans Unicode"/>
              </a:rPr>
              <a:t>組員名單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zh-TW" sz="2000" spc="-1" strike="noStrike">
                <a:solidFill>
                  <a:srgbClr val="464646"/>
                </a:solidFill>
                <a:latin typeface="Lucida Sans Unicode"/>
              </a:rPr>
              <a:t>何倩恩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110646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4646"/>
                </a:solidFill>
                <a:latin typeface="Lucida Sans Unicode"/>
              </a:rPr>
              <a:t>黎佩詩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110468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4646"/>
                </a:solidFill>
                <a:latin typeface="Lucida Sans Unicode"/>
              </a:rPr>
              <a:t>葉慧雯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1106462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4646"/>
                </a:solidFill>
                <a:latin typeface="Lucida Sans Unicode"/>
              </a:rPr>
              <a:t>駱羨彤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1106474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Lucida Sans Unicode"/>
              </a:rPr>
              <a:t>馬暐恩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1106492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7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2" descr="C:\Users\Sammi Mia L\Desktop\Untitled.kid.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行為主義</a:t>
            </a:r>
            <a:br>
              <a:rPr sz="3000"/>
            </a:b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－ 刺激反應論</a:t>
            </a:r>
            <a:br>
              <a:rPr sz="2700"/>
            </a:b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以音樂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d Shoulders Knees and Toes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」刺激幼兒的思維，同時在早操時間播片影片，刺激幼兒的四肢。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d Shoulders Knees and Toes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.youtube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.com/watch?v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=gxphoOOwTb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475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認知主義學習理論</a:t>
            </a:r>
            <a:br>
              <a:rPr sz="3000"/>
            </a:b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－ 幼兒主動學習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擺放在電腦角，使幼兒主動積極去電腦角，從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的內容學習我的身體。</a:t>
            </a:r>
            <a:br>
              <a:rPr sz="2700"/>
            </a:b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－ 著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重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電腦的教導式而非練習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老師以電腦來輔助教學，而不是讓幼兒用電腦來練習一些技巧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建構主義</a:t>
            </a:r>
            <a:br>
              <a:rPr sz="3000"/>
            </a:br>
            <a:br>
              <a:rPr sz="3000"/>
            </a:b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－ 知識並非被動接受，而是主動的建構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擺放在電腦角，幼兒主動積極去電腦角，從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的內容學習我的身體，而被非老師以「洗腦式」向幼兒灌輸知識，使整個學習過程變得有意義。</a:t>
            </a:r>
            <a:br>
              <a:rPr sz="2700"/>
            </a:b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－ 強調情境化學習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　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圖像﹑文字這視覺資源會令幼兒感到好奇。透過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dspiration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內的五官照片強調情境化學習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建構主義</a:t>
            </a:r>
            <a:br>
              <a:rPr sz="3000"/>
            </a:br>
            <a:r>
              <a:rPr b="1" lang="zh-TW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－ 教學活動不應為「教」而設計，而是應為「學」而設計。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內容不是配合老師的教學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的內容以簡單的句子來設計，使幼兒容易明白故事的情節，「學習」句子或單字。</a:t>
            </a:r>
            <a:br>
              <a:rPr sz="2700"/>
            </a:br>
            <a:br>
              <a:rPr sz="2700"/>
            </a:b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dspiration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所設計的腦圖以簡單的詞語和句子形成，以圖文配對的方式展示，幼兒看到圖片時可學習字詞，例如：「耳」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幼稚園的責任是要培育下一代，現今資訊科技發達，有各項的軟體硬體設備，能在幼稚園的學習活動中把需要教授的知識生動化， 又有不同的圖片， 短片播放給幼兒觀看， 藉此把知識深化， 令幼兒在學習的過程中留下深刻的印象，資訊科技亦能提高幼兒學習興趣，讓他們在學齡前能打好基礎，此乃大家所應共同努力的目標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但與此同時，我們不希望幼兒會過份依賴在科資訊技上，所以幼稚園需有技巧和適當的運用資訊科技去進行教學活動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14040" y="9140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分工表：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三小時教案：　　　   </a:t>
            </a:r>
            <a:r>
              <a:rPr b="0" lang="zh-TW" sz="3000" spc="-1" strike="noStrike">
                <a:solidFill>
                  <a:srgbClr val="464646"/>
                </a:solidFill>
                <a:latin typeface="新細明體"/>
                <a:ea typeface="新細明體"/>
              </a:rPr>
              <a:t>黎佩詩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簡介活動內容﹑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ppt</a:t>
            </a:r>
            <a:r>
              <a:rPr b="0" lang="en-US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：  </a:t>
            </a:r>
            <a:r>
              <a:rPr b="0" lang="zh-TW" sz="3000" spc="-1" strike="noStrike">
                <a:solidFill>
                  <a:srgbClr val="464646"/>
                </a:solidFill>
                <a:latin typeface="新細明體"/>
                <a:ea typeface="新細明體"/>
              </a:rPr>
              <a:t>駱羨彤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理念分析﹑文字檔：   葉慧雯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Ebook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軟件 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: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　　　　  馬暐恩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Kidspiration</a:t>
            </a:r>
            <a:r>
              <a:rPr b="0" lang="zh-TW" sz="3000" spc="-1" strike="noStrike">
                <a:solidFill>
                  <a:srgbClr val="000000"/>
                </a:solidFill>
                <a:latin typeface="新細明體"/>
                <a:ea typeface="新細明體"/>
              </a:rPr>
              <a:t>軟件：        </a:t>
            </a:r>
            <a:r>
              <a:rPr b="0" lang="zh-TW" sz="3000" spc="-1" strike="noStrike">
                <a:solidFill>
                  <a:srgbClr val="464646"/>
                </a:solidFill>
                <a:latin typeface="新細明體"/>
                <a:ea typeface="新細明體"/>
              </a:rPr>
              <a:t>何倩恩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523520" y="1981080"/>
            <a:ext cx="6172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微軟正黑體"/>
              </a:rPr>
              <a:t>&lt;</a:t>
            </a:r>
            <a:r>
              <a:rPr b="1" lang="zh-TW" sz="9600" spc="-1" strike="noStrike">
                <a:solidFill>
                  <a:srgbClr val="000000"/>
                </a:solidFill>
                <a:latin typeface="微軟正黑體"/>
              </a:rPr>
              <a:t>完</a:t>
            </a:r>
            <a:r>
              <a:rPr b="1" lang="en-US" sz="9600" spc="-1" strike="noStrike">
                <a:solidFill>
                  <a:srgbClr val="000000"/>
                </a:solidFill>
                <a:latin typeface="微軟正黑體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教學對象：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幼兒班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數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主題：我的身體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學習目的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了解身體功能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學習保護身體的重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接觸更多資訊科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5791320" y="1371600"/>
          <a:ext cx="2104920" cy="415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371600"/>
                    <a:ext cx="21049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Lucida Sans Unicode"/>
              </a:rPr>
              <a:t>三小時的半日制教學中會有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音樂活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電腦學習活動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分組活動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主題活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hi.jpg"/>
          <p:cNvPicPr/>
          <p:nvPr/>
        </p:nvPicPr>
        <p:blipFill>
          <a:blip r:embed="rId2"/>
          <a:stretch/>
        </p:blipFill>
        <p:spPr>
          <a:xfrm>
            <a:off x="324000" y="4005360"/>
            <a:ext cx="4338360" cy="2852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itit.jpg"/>
          <p:cNvPicPr/>
          <p:nvPr/>
        </p:nvPicPr>
        <p:blipFill>
          <a:blip r:embed="rId3"/>
          <a:stretch/>
        </p:blipFill>
        <p:spPr>
          <a:xfrm>
            <a:off x="4716360" y="2276640"/>
            <a:ext cx="39070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以音樂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d ,Shoulders ,Knees and Toes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」刺激幼兒的思維，同時在早操時間播片影片，刺激幼兒的四肢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在播放音樂的同時，要求幼兒一起打拍子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在幼兒熟悉韻律後，便站起來跟老師一起跳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d ,Shoulders ,Knees and Toes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」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1347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Sammi Mia L\Downloads\kids dance.jpg"/>
          <p:cNvPicPr/>
          <p:nvPr/>
        </p:nvPicPr>
        <p:blipFill>
          <a:blip r:embed="rId2"/>
          <a:stretch/>
        </p:blipFill>
        <p:spPr>
          <a:xfrm>
            <a:off x="395280" y="4076640"/>
            <a:ext cx="3537000" cy="2592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s://encrypted-tbn3.gstatic.com/images?q=tbn:ANd9GcTczsTRVJRJYVLNQFDwdgKLxZ18x3w4wIhwA0y7_wJmXaWWupwCAA"/>
          <p:cNvPicPr/>
          <p:nvPr/>
        </p:nvPicPr>
        <p:blipFill>
          <a:blip r:embed="rId3"/>
          <a:stretch/>
        </p:blipFill>
        <p:spPr>
          <a:xfrm>
            <a:off x="4500720" y="4005360"/>
            <a:ext cx="3887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在這個活動中，可以提供幼兒一個主動學習的機會，由於大部分幼兒都喜歡透過電腦學習，所以老師會把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擺放在電腦角，使幼兒主動積極去電腦角，從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book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的內容學習主題「我的身體」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1347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kids-on-computer.jpg"/>
          <p:cNvPicPr/>
          <p:nvPr/>
        </p:nvPicPr>
        <p:blipFill>
          <a:blip r:embed="rId2"/>
          <a:stretch/>
        </p:blipFill>
        <p:spPr>
          <a:xfrm>
            <a:off x="4541760" y="3529080"/>
            <a:ext cx="4602240" cy="332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images.jpg"/>
          <p:cNvPicPr/>
          <p:nvPr/>
        </p:nvPicPr>
        <p:blipFill>
          <a:blip r:embed="rId3"/>
          <a:stretch/>
        </p:blipFill>
        <p:spPr>
          <a:xfrm>
            <a:off x="228600" y="3645000"/>
            <a:ext cx="42894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內容版面配置區 3" descr=""/>
          <p:cNvPicPr/>
          <p:nvPr/>
        </p:nvPicPr>
        <p:blipFill>
          <a:blip r:embed="rId1"/>
          <a:stretch/>
        </p:blipFill>
        <p:spPr>
          <a:xfrm>
            <a:off x="547560" y="1481040"/>
            <a:ext cx="8048880" cy="4827600"/>
          </a:xfrm>
          <a:prstGeom prst="rect">
            <a:avLst/>
          </a:prstGeom>
          <a:ln w="0">
            <a:noFill/>
          </a:ln>
        </p:spPr>
      </p:pic>
      <p:pic>
        <p:nvPicPr>
          <p:cNvPr id="389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內容版面配置區 3" descr=""/>
          <p:cNvPicPr/>
          <p:nvPr/>
        </p:nvPicPr>
        <p:blipFill>
          <a:blip r:embed="rId1"/>
          <a:stretch/>
        </p:blipFill>
        <p:spPr>
          <a:xfrm>
            <a:off x="547560" y="1481040"/>
            <a:ext cx="804888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內容版面配置區 3" descr=""/>
          <p:cNvPicPr/>
          <p:nvPr/>
        </p:nvPicPr>
        <p:blipFill>
          <a:blip r:embed="rId1"/>
          <a:stretch/>
        </p:blipFill>
        <p:spPr>
          <a:xfrm>
            <a:off x="547560" y="1481040"/>
            <a:ext cx="8048880" cy="4525920"/>
          </a:xfrm>
          <a:prstGeom prst="rect">
            <a:avLst/>
          </a:prstGeom>
          <a:ln w="0">
            <a:noFill/>
          </a:ln>
        </p:spPr>
      </p:pic>
      <p:pic>
        <p:nvPicPr>
          <p:cNvPr id="393" name="標題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dspiration </a:t>
            </a: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所設計的腦圖以簡單的詞語和句子製作而形成，以圖文配對的方式展示，在幼兒看到圖片時可以學習字詞，例如：「耳」。</a:t>
            </a:r>
            <a:br>
              <a:rPr sz="2700"/>
            </a:br>
            <a:br>
              <a:rPr sz="2700"/>
            </a:b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5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角色扮演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33:18Z</dcterms:created>
  <dc:creator>Sammi Mia L</dc:creator>
  <dc:description/>
  <dc:language>en-US</dc:language>
  <cp:lastModifiedBy>user</cp:lastModifiedBy>
  <dcterms:modified xsi:type="dcterms:W3CDTF">2013-03-07T02:25:54Z</dcterms:modified>
  <cp:revision>31</cp:revision>
  <dc:subject/>
  <dc:title>    </dc:title>
</cp:coreProperties>
</file>