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FDD-06DC-49DB-8C4F-24EDAC99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B1D-F198-4616-8DEC-D36F7ADA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921-61AA-4970-BEAD-BE71A1CF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7DE-A296-4B34-9D22-05248FE9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33A-10F7-454B-A34A-EA03348F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660-021A-47E6-8238-75B042D9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9E4-F6C5-4A89-AF9D-268DA0F1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AA8-F6EF-4A62-AE28-F3797BF3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0FC-A5F0-49CE-9217-FB6D039B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54F-658C-4039-9DAA-BF770A3B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AE2-DE2D-4295-B15B-842953C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26E-1F75-4807-966A-B2C07DF2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7BEE-B552-4FAD-8BB9-39B9FB7CB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哪個是直昇機</a:t>
            </a:r>
            <a:r>
              <a:rPr b="1" lang="en-US" sz="4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3BL470_GB2444@16"/>
          <p:cNvPicPr/>
          <p:nvPr/>
        </p:nvPicPr>
        <p:blipFill>
          <a:blip r:embed="rId1"/>
          <a:stretch/>
        </p:blipFill>
        <p:spPr>
          <a:xfrm>
            <a:off x="0" y="4071960"/>
            <a:ext cx="3780000" cy="2786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440_20110801141917476ff"/>
          <p:cNvPicPr/>
          <p:nvPr/>
        </p:nvPicPr>
        <p:blipFill>
          <a:blip r:embed="rId2"/>
          <a:stretch/>
        </p:blipFill>
        <p:spPr>
          <a:xfrm>
            <a:off x="0" y="0"/>
            <a:ext cx="3419640" cy="28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04_G"/>
          <p:cNvPicPr/>
          <p:nvPr/>
        </p:nvPicPr>
        <p:blipFill>
          <a:blip r:embed="rId3"/>
          <a:stretch/>
        </p:blipFill>
        <p:spPr>
          <a:xfrm>
            <a:off x="5508720" y="4005360"/>
            <a:ext cx="363528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452"/>
          <p:cNvPicPr/>
          <p:nvPr/>
        </p:nvPicPr>
        <p:blipFill>
          <a:blip r:embed="rId4"/>
          <a:stretch/>
        </p:blipFill>
        <p:spPr>
          <a:xfrm>
            <a:off x="5940360" y="0"/>
            <a:ext cx="320364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428-S1(1)"/>
          <p:cNvPicPr/>
          <p:nvPr/>
        </p:nvPicPr>
        <p:blipFill>
          <a:blip r:embed="rId1"/>
          <a:stretch/>
        </p:blipFill>
        <p:spPr>
          <a:xfrm>
            <a:off x="611280" y="907920"/>
            <a:ext cx="7615080" cy="50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440_20110801141917476ff"/>
          <p:cNvPicPr/>
          <p:nvPr/>
        </p:nvPicPr>
        <p:blipFill>
          <a:blip r:embed="rId1"/>
          <a:stretch/>
        </p:blipFill>
        <p:spPr>
          <a:xfrm>
            <a:off x="900000" y="549360"/>
            <a:ext cx="7561440" cy="561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452"/>
          <p:cNvPicPr/>
          <p:nvPr/>
        </p:nvPicPr>
        <p:blipFill>
          <a:blip r:embed="rId1"/>
          <a:stretch/>
        </p:blipFill>
        <p:spPr>
          <a:xfrm>
            <a:off x="611280" y="907920"/>
            <a:ext cx="8137440" cy="5202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4_G"/>
          <p:cNvPicPr/>
          <p:nvPr/>
        </p:nvPicPr>
        <p:blipFill>
          <a:blip r:embed="rId1"/>
          <a:stretch/>
        </p:blipFill>
        <p:spPr>
          <a:xfrm>
            <a:off x="468360" y="836640"/>
            <a:ext cx="8353440" cy="5184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tr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90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S3BL470_GB2444@16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5281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洛杉磯市消防局直升機"/>
          <p:cNvPicPr/>
          <p:nvPr/>
        </p:nvPicPr>
        <p:blipFill>
          <a:blip r:embed="rId1"/>
          <a:stretch/>
        </p:blipFill>
        <p:spPr>
          <a:xfrm>
            <a:off x="395280" y="620640"/>
            <a:ext cx="8375760" cy="576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8:34:37Z</dcterms:created>
  <dc:creator/>
  <dc:description/>
  <dc:language>en-US</dc:language>
  <cp:lastModifiedBy/>
  <dcterms:modified xsi:type="dcterms:W3CDTF">2014-04-22T08:34:55Z</dcterms:modified>
  <cp:revision>1</cp:revision>
  <dc:subject/>
  <dc:title/>
</cp:coreProperties>
</file>