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950A-583D-4E0E-AEE5-14ADD9A98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4AB3-B860-4B22-A413-D37967DE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0DB78-D86D-4836-9827-14E49F22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84D5F0-5E8F-468B-A545-2E06DD5E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A2BC7-4B54-4718-94A7-C61A27DF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0E42A-2BF6-4417-8099-46E1E78D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1114E7-46C8-492E-AA95-D9A9022E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FC0E7-F5B7-42E3-9226-66A3AE03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43631-930C-4A12-9A0B-5B5CE1A2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DB34D-35D2-4AAA-B916-46BEF83E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8993A-86B7-4021-84F7-094922AE6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D07D26-E672-4127-BE1E-9D262516C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C872-C4A5-49E0-9F81-1AAE15F9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9395B-CCA1-423C-898A-0CA2D2C6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F2BD7-B552-4F96-8321-AEEB2E22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AD04A3-943D-4C54-A05E-CE0FC3D7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5ECCB-5127-4070-85A1-D9C8A3E3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E5221F-02F4-4090-8230-1DE31983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F515B-86EE-4D6A-9807-B73184B3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8968B-7B6F-41FF-94FE-3DA347CE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5CF84-7B9D-48B7-8290-D7BDA8EA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308D8-8EF6-4C51-8922-E930FE08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5C467-EFFE-46E8-980F-1011E9F79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C866-7331-4AAF-9256-2AC1114B0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B97BE-C9FF-45B6-AA23-C7CB8B23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BA5B4-E26B-4199-BDDF-B9BD9A53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AE5EC-E4F5-468C-8784-68024A0D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58316-96EA-481F-9E81-8C792A73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477E3-560A-4903-BD09-0CC9EC03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D9367-E4E3-4080-807F-20E166B1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06336-063D-4053-8EAA-84345262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5FCC6-5767-4204-BCE7-56814069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73E11-AB56-4ED0-9710-9ACEB729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1CAB4-8F98-43E0-9CB8-D7E35F98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BD0E-F827-42B6-A0E1-3B2F14217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7A905-003B-42DF-AE20-E2DF6DFC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B64CB-3C2C-4BCE-9125-1D6880041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BC62E-6B0E-46E5-8C8A-1121D793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8557F4-6F3E-4742-8800-D91D94C14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86A4D-15D8-4AE5-B9B0-A72A1350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32D30-3969-4E86-86FC-FC976F5E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AD5114-7406-4C88-9C26-49944343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DC7C50-CDF6-430E-BF75-981F44A5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B911D-AE48-4E19-AC34-91D0B76A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1E965A-5DB3-416F-9D98-569DDD5B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4FBA-1C3C-4B3A-BE42-63F400DA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170E7-E4FC-48A1-A3C8-6A04D3C1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78346C-77EE-4022-924F-566726B1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3669CF-EC1D-4813-966F-CC7EF0A7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8C8A8-43FA-4E7F-A8B5-D0638C983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6AA846-9C0C-459B-9CE0-49108C6A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63F8D6-015F-4F80-B1B5-DBD23469E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3D0FA8-3306-4746-B844-CA87FD23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7D05B6-C173-49CA-A6E0-DC7A6E0F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B3A183-79AB-4355-8C6B-F280D8EA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6B6E8E-2A12-406B-B7B2-2D160447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EB01-47F5-4051-A7D9-CD0CBC9F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A915DA-7755-4157-AEFA-41254FCC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69D73C-77D6-42B2-8CC8-426D98EA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6EE5FB-94F3-440C-BC3B-02E57923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30EC52-E721-4A2B-9654-932CD9B7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6E7042-28FB-49CD-8430-59511D17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1F028F-EC5D-46B8-943C-2284F9A73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19729F-F9A7-4BDD-B07C-A5DCE3B73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D383D2-33B8-4D37-B9C9-EAD72EC7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938EBE-33F1-421A-975C-5FDBB1A5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99C061-7F03-4272-B66F-77916E14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F912-CCA1-4BAF-A515-8D3D048F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E1F783-B2AC-4231-96F5-F81F6F46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C2616F-C97D-400C-9DA3-42D890F7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BB82DE-5601-40FD-A872-85B21DF8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AF798F-60B2-476C-B529-A5D11E02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2433CA-5445-4118-BD31-BE6C7A4B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52F426-AD18-413B-AECF-C0156C81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B6EE9D-38EF-4C22-9E37-8AA0A6A0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F394BF-3391-4DD0-A45D-94566C2BA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FC967E-9CEB-4AE6-A4FE-B8C2E270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BD064F-3FAF-48F1-A76E-8F2969DAB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1956-73F4-42AB-B6E0-61ECCEAD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3E6605-88F7-4E88-99A1-3BA48FD1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000285-C117-4E8D-81CC-7B22105C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3E2778-42A2-4B13-91C5-91B22A9B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21077E-B862-405C-B321-52DF6006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476FC3-77CA-4683-9DDD-2EE3CE8F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CED1CF-D277-4DBD-A23E-B02130FD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F5F7E6-DF61-44B7-9708-561FF03D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E4508B-264E-4318-AB0C-33A9F4FF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661F02-C92D-41F0-9370-C71AFFFF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5BC7C0-1091-4C90-A370-25A6D120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5B6E-069C-418D-A8E3-208C7C33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2CD08F-45B3-47B4-9858-002CD31E7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FC075E-C417-4097-AD17-E1DDA6B2F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EBE412-BE0F-482D-B3E9-9A0EE1C8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55265A-7DE6-4D31-9F55-210F9396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43ACD4-4A9C-41CE-A208-0E577CA5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B387A2-8846-47CA-92F8-51E161A7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A0BA74-E4F3-4AB7-8A26-2027EBCD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A00708-35BC-4CDB-B3B9-6AB3B89B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C283F0-D275-4197-A3F2-7852592C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991E27-7B36-438E-B0B1-C16591B6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6CA6-C545-44D7-99AF-6B6FFF31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3CDF11-FBAF-43EF-A5F0-4FF00F23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A7E4F0-33DD-4B27-8151-FF5BC3473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03A247-764F-4A38-85ED-D42BDF552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C3F9-D1E6-4507-87EF-36D356B0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2D3E-E9A2-4848-908A-9CE71361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4901-1263-4184-91C7-39F06FBF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298D-6166-4F3D-AD41-B780F527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92C8-684B-44EE-A964-FDDA1F70E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3421-8456-474D-85E0-252D1F753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C3846-AAD3-4FA0-A16C-4FBC01FE2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717A7-52BB-4826-81D8-499EDB9F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E6C4B-1DC1-4E12-810B-EBB9BCC3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E9E16-8662-4E4C-AF1B-47E9E8B2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84070-14F5-4C23-A749-EF5F1E7D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4D88-9BC3-43C9-B3C2-2ACFA034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CBFB5-6A0C-4630-AF84-F33C1F83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670A2-05B0-49A8-AF9A-A7F1E181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5B8CC-D1A2-43AC-BC3E-0D791385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1236B-1E19-4BE3-9696-982439ED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AD67F-33A0-4F94-9247-7B53D05C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9D9C7-1130-4810-90D8-66B957247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AE1C9-E9DE-4403-8814-88E9EC39F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54A48-DF0B-4E97-B7AF-F14E171E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13D70-CC11-4D50-BB7C-E591D654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D43D7-4DC2-4999-82AE-CE31E3B0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6E45-8DB4-46AF-BDF0-D3F03AFA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AA443-90B8-4B38-81E4-D379DC6A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DE1CC-E5E3-49F4-BE18-41C1CAE7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7C7D3-D0FA-4D9D-BEB8-E27D567D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26AF9-67AA-4EF8-AE26-4FD7B210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4C6C4-E2D8-415C-A7B7-B16B702C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FDB1D-F68C-4FE2-9488-E2C64500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1AEE1-92D4-454C-8AF0-1C5590F7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59C34-C289-4F9B-8430-7D3523815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E831F-CD35-4895-8D97-A0E0ABA80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6FD80-BB04-4210-B730-A1A933D7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51BF-C306-4DED-AFED-2AF2821B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F52BF-3B05-4995-A0BB-FB6A257B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5BD52-CFD0-4C99-9BC8-3522364E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15CFD-58CF-4287-9959-ED6DB918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FB59F-88D0-4D54-96C7-6910227E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A814F-7A39-427A-A3B7-E80F8E5A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AC0CD-D511-48F5-BEA4-A41FED1C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012ED-7E4B-4258-B104-156A5D58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B19BC-24EA-4F12-BE84-5725C202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3E32C-179C-4312-AF08-730DB5F9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DFDE0-0B32-4986-A136-0DD8D2C3A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9E0B-C121-49B8-89E6-9EDD22AB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BDF47-AF95-41AA-8830-65C83E80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BB83C-6BC4-4926-98A2-E1E9173D2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7A868-920E-4650-A25E-65C35139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83A38-3433-45BA-9542-12CD8E6D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EFEB6-C979-46A7-B4FF-97EA7C44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58BB2-FBA0-4FD3-AB7F-B1B6AA7C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05B43-EAF7-4651-A38A-AB13DAAA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5C13B-78FC-45CF-99F6-08C6A4B8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B999A-8251-40C4-A96B-52B1D02A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5E2B6-D1C8-4E9E-A113-017BB2EF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6736-27BA-4169-94D5-B0D68204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2CB0C-77F9-4A9D-998E-3E7A69EE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EFA57-108A-4FDD-8047-D592FB3F9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283FC-965B-4761-A4C0-DC5366E3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DF37F-EC02-4524-9188-00F31B340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87476-E8EA-49BA-A762-00554C83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183A9-86C2-4ACF-8B96-1DBF2934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CC1C8-635D-4862-8A0B-27FB53A4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6A661-73B3-4965-B618-B9121A80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1F990-E6C8-490D-912A-4F0B28AD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C8210-2CFF-4419-B860-29B52349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25A1-296B-4CCB-8368-B901CBE9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555DD-8E1B-482F-A763-D3F370D1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AFC0D-75D0-495C-80F2-3721AF22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4E07B-FF4D-48D2-B0A7-5B9D51B5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D3774-9913-465B-9298-72BFC2FB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A3D1B-1C6C-4448-98BD-D658A38F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1AEF2-E1C3-4D22-BE02-745518684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18A2E-89F2-4E01-A486-52348E72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92755-A74A-49FB-8127-4034A501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DA21B-A1AF-429A-9CCC-17F84889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0E0F1-D7BE-4262-B20E-FDEF3568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63F1-B43A-4BE6-8571-503D5BE5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4222D-BDAA-47CF-84B4-4122FC15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49531-DEF6-4283-9801-F180C60B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2CA5D-DE4F-4E35-B39B-98702D85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E6015-3932-4B3C-BC68-9A92A3F2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B0B34-F6C6-4A44-82B9-1D043A13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B4182-4AA8-4C36-96AA-8B309CEB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520C8-F9A8-4F08-9C83-7CF582D47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5A149-0737-4211-A7D9-FF046A64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F98A1-36BF-4FDE-AD11-24DDF38E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6740E-2415-4E48-B16E-860CB49D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EDFF-E819-44F3-B3ED-9F841D132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B83F-9BBA-4021-912C-A7443B056FEA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DAAD-5BEA-40A8-8900-ED9CE7A7CC69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4E01-21D7-400E-8196-110A0C867703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15C8-1C44-470D-B2C9-F038FB949456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DC84-AF0C-4568-ADA3-AD782AA9AB4F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9739-B0CF-4D61-AB15-DC85C749D1EA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4BA0-B44D-4148-AC38-C0695365D2E2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3F11-8E19-41B0-B61C-FC89512BB7EA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8051-5B16-4358-BDBF-E59746EB5EA4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8C0D-2AE5-43F7-A6FE-488CA6D54606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F9B7-39C9-4613-B716-52A24393BD5B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42D5-004C-4D7C-BA11-BFD6AEE8B0FC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2A64-33A5-47CB-B4C5-70A355AAA4F7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113C-CF12-4C8A-9638-0F5E5B2B1CF8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D49E-023D-4F4A-A413-8901D980D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edb.gov.hk/attachment/tc/curriculum-development/kla/ma/curr/chapter%204_31.pdf" TargetMode="External"/><Relationship Id="rId2" Type="http://schemas.openxmlformats.org/officeDocument/2006/relationships/hyperlink" Target="https://www.edb.gov.hk/attachment/tc/curriculum-development/kla/ma/curr/chapter%204_41.pdf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1258920" y="2647440"/>
            <a:ext cx="6400800" cy="26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中五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數學科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數列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2019</a:t>
            </a: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7" name="Rectangle 5"/>
          <p:cNvSpPr/>
          <p:nvPr/>
        </p:nvSpPr>
        <p:spPr>
          <a:xfrm>
            <a:off x="611280" y="47628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3300"/>
                </a:solidFill>
                <a:latin typeface="Arial"/>
              </a:rPr>
              <a:t>「有效的觀課與評課 －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zh-TW" sz="3600" spc="-1" strike="noStrike">
                <a:solidFill>
                  <a:srgbClr val="cc3300"/>
                </a:solidFill>
                <a:latin typeface="Arial"/>
              </a:rPr>
              <a:t>以學校為本位」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3300"/>
                </a:solidFill>
                <a:latin typeface="Arial"/>
              </a:rPr>
              <a:t>小組匯報</a:t>
            </a:r>
            <a:br>
              <a:rPr sz="3600"/>
            </a:b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8" name="投影片編號版面配置區 1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57DF-0507-46F8-8F7B-65F66807C1C4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301680" y="1599840"/>
            <a:ext cx="8540640" cy="449892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3" descr=""/>
          <p:cNvPicPr/>
          <p:nvPr/>
        </p:nvPicPr>
        <p:blipFill>
          <a:blip r:embed="rId2"/>
          <a:srcRect l="37400" t="17400" r="12291" b="6604"/>
          <a:stretch/>
        </p:blipFill>
        <p:spPr>
          <a:xfrm>
            <a:off x="1547640" y="692280"/>
            <a:ext cx="6985080" cy="5937120"/>
          </a:xfrm>
          <a:prstGeom prst="rect">
            <a:avLst/>
          </a:prstGeom>
          <a:ln w="0">
            <a:noFill/>
          </a:ln>
        </p:spPr>
      </p:pic>
      <p:sp>
        <p:nvSpPr>
          <p:cNvPr id="705" name="投影片編號版面配置區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AA3A-97D5-45C4-ADBF-F3C01222D09F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ile"/>
          <p:cNvSpPr/>
          <p:nvPr/>
        </p:nvSpPr>
        <p:spPr>
          <a:xfrm>
            <a:off x="633240" y="550800"/>
            <a:ext cx="1368720" cy="1125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0c0c0"/>
                </a:solidFill>
                <a:latin typeface="Times New Roman"/>
              </a:rPr>
              <a:t>選擇研究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0c0c0"/>
                </a:solidFill>
                <a:latin typeface="Times New Roman"/>
              </a:rPr>
              <a:t>的課題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Times New Roman"/>
              </a:rPr>
              <a:t>(V2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7" name="File"/>
          <p:cNvSpPr/>
          <p:nvPr/>
        </p:nvSpPr>
        <p:spPr>
          <a:xfrm>
            <a:off x="7091280" y="550800"/>
            <a:ext cx="1368360" cy="1125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6600ff"/>
                </a:solidFill>
                <a:latin typeface="Arial"/>
              </a:rPr>
              <a:t>確認學習內容及其關鍵特徵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8" name="AutoShape 4"/>
          <p:cNvSpPr/>
          <p:nvPr/>
        </p:nvSpPr>
        <p:spPr>
          <a:xfrm>
            <a:off x="6534000" y="1160640"/>
            <a:ext cx="287640" cy="288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9" name="AutoShape 5"/>
          <p:cNvSpPr/>
          <p:nvPr/>
        </p:nvSpPr>
        <p:spPr>
          <a:xfrm rot="5400000">
            <a:off x="7782120" y="2302560"/>
            <a:ext cx="287280" cy="28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0" name="File"/>
          <p:cNvSpPr/>
          <p:nvPr/>
        </p:nvSpPr>
        <p:spPr>
          <a:xfrm>
            <a:off x="4643280" y="511200"/>
            <a:ext cx="1729080" cy="11653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0c0c0"/>
                </a:solidFill>
                <a:latin typeface="Times New Roman"/>
              </a:rPr>
              <a:t>診斷學習困難 </a:t>
            </a:r>
            <a:r>
              <a:rPr b="0" lang="en-US" sz="1800" spc="-1" strike="noStrike">
                <a:solidFill>
                  <a:srgbClr val="c0c0c0"/>
                </a:solidFill>
                <a:latin typeface="Times New Roman"/>
              </a:rPr>
              <a:t>(</a:t>
            </a:r>
            <a:r>
              <a:rPr b="0" lang="zh-TW" sz="1800" spc="-1" strike="noStrike">
                <a:solidFill>
                  <a:srgbClr val="c0c0c0"/>
                </a:solidFill>
                <a:latin typeface="Times New Roman"/>
              </a:rPr>
              <a:t>前測、學生訪談</a:t>
            </a:r>
            <a:r>
              <a:rPr b="0" lang="en-US" sz="1800" spc="-1" strike="noStrike">
                <a:solidFill>
                  <a:srgbClr val="c0c0c0"/>
                </a:solidFill>
                <a:latin typeface="Times New Roman"/>
              </a:rPr>
              <a:t>) </a:t>
            </a:r>
            <a:r>
              <a:rPr b="1" lang="en-US" sz="1800" spc="-1" strike="noStrike">
                <a:solidFill>
                  <a:srgbClr val="c0c0c0"/>
                </a:solidFill>
                <a:latin typeface="Times New Roman"/>
              </a:rPr>
              <a:t>(V1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1" name="AutoShape 7"/>
          <p:cNvSpPr/>
          <p:nvPr/>
        </p:nvSpPr>
        <p:spPr>
          <a:xfrm>
            <a:off x="2139840" y="1160640"/>
            <a:ext cx="287280" cy="288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66"/>
          </a:solidFill>
          <a:ln cap="sq"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2" name="File"/>
          <p:cNvSpPr/>
          <p:nvPr/>
        </p:nvSpPr>
        <p:spPr>
          <a:xfrm>
            <a:off x="2685960" y="555480"/>
            <a:ext cx="1368360" cy="11210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0c0c0"/>
                </a:solidFill>
                <a:latin typeface="Times New Roman"/>
              </a:rPr>
              <a:t>初擬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0c0c0"/>
                </a:solidFill>
                <a:latin typeface="Times New Roman"/>
              </a:rPr>
              <a:t>學習內容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Times New Roman"/>
              </a:rPr>
              <a:t>(V2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3" name="AutoShape 9"/>
          <p:cNvSpPr/>
          <p:nvPr/>
        </p:nvSpPr>
        <p:spPr>
          <a:xfrm>
            <a:off x="4290840" y="1165320"/>
            <a:ext cx="287640" cy="288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4" name="Line 10"/>
          <p:cNvSpPr/>
          <p:nvPr/>
        </p:nvSpPr>
        <p:spPr>
          <a:xfrm>
            <a:off x="1682640" y="189000"/>
            <a:ext cx="5639040" cy="0"/>
          </a:xfrm>
          <a:prstGeom prst="line">
            <a:avLst/>
          </a:prstGeom>
          <a:ln w="19080">
            <a:solidFill>
              <a:srgbClr val="08080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5" name="Line 11"/>
          <p:cNvSpPr/>
          <p:nvPr/>
        </p:nvSpPr>
        <p:spPr>
          <a:xfrm flipH="1">
            <a:off x="1910880" y="2035080"/>
            <a:ext cx="838440" cy="0"/>
          </a:xfrm>
          <a:prstGeom prst="line">
            <a:avLst/>
          </a:prstGeom>
          <a:ln w="19080">
            <a:solidFill>
              <a:srgbClr val="080808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6" name="Line 12"/>
          <p:cNvSpPr/>
          <p:nvPr/>
        </p:nvSpPr>
        <p:spPr>
          <a:xfrm flipV="1">
            <a:off x="1606680" y="1763640"/>
            <a:ext cx="0" cy="271440"/>
          </a:xfrm>
          <a:prstGeom prst="line">
            <a:avLst/>
          </a:prstGeom>
          <a:ln w="19080">
            <a:solidFill>
              <a:srgbClr val="080808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7" name="Line 13"/>
          <p:cNvSpPr/>
          <p:nvPr/>
        </p:nvSpPr>
        <p:spPr>
          <a:xfrm>
            <a:off x="5873760" y="2035080"/>
            <a:ext cx="838080" cy="0"/>
          </a:xfrm>
          <a:prstGeom prst="line">
            <a:avLst/>
          </a:prstGeom>
          <a:ln w="19080">
            <a:solidFill>
              <a:srgbClr val="080808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8" name="Line 14"/>
          <p:cNvSpPr/>
          <p:nvPr/>
        </p:nvSpPr>
        <p:spPr>
          <a:xfrm>
            <a:off x="7321680" y="189000"/>
            <a:ext cx="0" cy="339480"/>
          </a:xfrm>
          <a:prstGeom prst="line">
            <a:avLst/>
          </a:prstGeom>
          <a:ln w="19080">
            <a:solidFill>
              <a:srgbClr val="080808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9" name="Line 15"/>
          <p:cNvSpPr/>
          <p:nvPr/>
        </p:nvSpPr>
        <p:spPr>
          <a:xfrm flipH="1">
            <a:off x="1987200" y="189000"/>
            <a:ext cx="762120" cy="0"/>
          </a:xfrm>
          <a:prstGeom prst="line">
            <a:avLst/>
          </a:prstGeom>
          <a:ln w="19080">
            <a:solidFill>
              <a:srgbClr val="080808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0" name="Line 16"/>
          <p:cNvSpPr/>
          <p:nvPr/>
        </p:nvSpPr>
        <p:spPr>
          <a:xfrm>
            <a:off x="5950080" y="189000"/>
            <a:ext cx="761760" cy="0"/>
          </a:xfrm>
          <a:prstGeom prst="line">
            <a:avLst/>
          </a:prstGeom>
          <a:ln w="19080">
            <a:solidFill>
              <a:srgbClr val="080808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1" name="Line 17"/>
          <p:cNvSpPr/>
          <p:nvPr/>
        </p:nvSpPr>
        <p:spPr>
          <a:xfrm>
            <a:off x="1606680" y="2035080"/>
            <a:ext cx="5790960" cy="0"/>
          </a:xfrm>
          <a:prstGeom prst="line">
            <a:avLst/>
          </a:prstGeom>
          <a:ln w="19080">
            <a:solidFill>
              <a:srgbClr val="08080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2" name="Line 18"/>
          <p:cNvSpPr/>
          <p:nvPr/>
        </p:nvSpPr>
        <p:spPr>
          <a:xfrm flipV="1">
            <a:off x="7451640" y="1763640"/>
            <a:ext cx="0" cy="271440"/>
          </a:xfrm>
          <a:prstGeom prst="line">
            <a:avLst/>
          </a:prstGeom>
          <a:ln w="19080">
            <a:solidFill>
              <a:srgbClr val="080808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3" name="Line 19"/>
          <p:cNvSpPr/>
          <p:nvPr/>
        </p:nvSpPr>
        <p:spPr>
          <a:xfrm>
            <a:off x="5416560" y="189000"/>
            <a:ext cx="0" cy="339480"/>
          </a:xfrm>
          <a:prstGeom prst="line">
            <a:avLst/>
          </a:prstGeom>
          <a:ln w="19080">
            <a:solidFill>
              <a:srgbClr val="080808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4" name="Line 20"/>
          <p:cNvSpPr/>
          <p:nvPr/>
        </p:nvSpPr>
        <p:spPr>
          <a:xfrm>
            <a:off x="3664080" y="189000"/>
            <a:ext cx="0" cy="339480"/>
          </a:xfrm>
          <a:prstGeom prst="line">
            <a:avLst/>
          </a:prstGeom>
          <a:ln w="19080">
            <a:solidFill>
              <a:srgbClr val="080808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5" name="Line 21"/>
          <p:cNvSpPr/>
          <p:nvPr/>
        </p:nvSpPr>
        <p:spPr>
          <a:xfrm>
            <a:off x="1682640" y="189000"/>
            <a:ext cx="0" cy="339480"/>
          </a:xfrm>
          <a:prstGeom prst="line">
            <a:avLst/>
          </a:prstGeom>
          <a:ln w="19080">
            <a:solidFill>
              <a:srgbClr val="080808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6" name="Line 22"/>
          <p:cNvSpPr/>
          <p:nvPr/>
        </p:nvSpPr>
        <p:spPr>
          <a:xfrm flipV="1">
            <a:off x="3740040" y="1752120"/>
            <a:ext cx="0" cy="273240"/>
          </a:xfrm>
          <a:prstGeom prst="line">
            <a:avLst/>
          </a:prstGeom>
          <a:ln w="19080">
            <a:solidFill>
              <a:srgbClr val="080808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7" name="Line 23"/>
          <p:cNvSpPr/>
          <p:nvPr/>
        </p:nvSpPr>
        <p:spPr>
          <a:xfrm flipV="1">
            <a:off x="5492880" y="1752120"/>
            <a:ext cx="0" cy="273240"/>
          </a:xfrm>
          <a:prstGeom prst="line">
            <a:avLst/>
          </a:prstGeom>
          <a:ln w="19080">
            <a:solidFill>
              <a:srgbClr val="080808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8" name="Text Box 24"/>
          <p:cNvSpPr/>
          <p:nvPr/>
        </p:nvSpPr>
        <p:spPr>
          <a:xfrm>
            <a:off x="1371600" y="2467080"/>
            <a:ext cx="6800760" cy="33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確認的學習內容</a:t>
            </a:r>
            <a:r>
              <a:rPr b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：</a:t>
            </a:r>
            <a:r>
              <a:rPr b="1" lang="zh-TW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從逆向</a:t>
            </a:r>
            <a:r>
              <a:rPr b="1" lang="en-US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/</a:t>
            </a:r>
            <a:r>
              <a:rPr b="1" lang="zh-TW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正向判斷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                </a:t>
            </a:r>
            <a:r>
              <a:rPr b="1" lang="zh-TW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數列的規律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80808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關鍵特徵</a:t>
            </a:r>
            <a:r>
              <a:rPr b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：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  <a:ea typeface="Arial"/>
              </a:rPr>
              <a:t>CF1. 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  <a:ea typeface="Arial"/>
              </a:rPr>
              <a:t>數列之間有固定的 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  <a:ea typeface="Arial"/>
              </a:rPr>
              <a:t>"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  <a:ea typeface="Arial"/>
              </a:rPr>
              <a:t>差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  <a:ea typeface="Arial"/>
              </a:rPr>
              <a:t>"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  <a:ea typeface="Arial"/>
              </a:rPr>
              <a:t>                      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  <a:ea typeface="Arial"/>
              </a:rPr>
              <a:t>CF2. 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  <a:ea typeface="Arial"/>
              </a:rPr>
              <a:t>數列之間有固定的 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  <a:ea typeface="Arial"/>
              </a:rPr>
              <a:t>"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  <a:ea typeface="Arial"/>
              </a:rPr>
              <a:t>比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  <a:ea typeface="Arial"/>
              </a:rPr>
              <a:t>"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9" name="投影片編號版面配置區 1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B9E5-D59D-4E0B-89FB-1FD75ABEE334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00"/>
                </a:solidFill>
                <a:latin typeface="Arial"/>
              </a:rPr>
              <a:t>教學設計及變易圖式的運用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452520" y="1479600"/>
          <a:ext cx="8458200" cy="5054400"/>
        </p:xfrm>
        <a:graphic>
          <a:graphicData uri="http://schemas.openxmlformats.org/drawingml/2006/table">
            <a:tbl>
              <a:tblPr/>
              <a:tblGrid>
                <a:gridCol w="2361960"/>
                <a:gridCol w="2133720"/>
                <a:gridCol w="1905120"/>
                <a:gridCol w="20574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教學環節</a:t>
                      </a:r>
                      <a:r>
                        <a:rPr b="1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/</a:t>
                      </a:r>
                      <a:r>
                        <a:rPr b="1" lang="zh-TW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目的</a:t>
                      </a:r>
                      <a:r>
                        <a:rPr b="1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/</a:t>
                      </a:r>
                      <a:r>
                        <a:rPr b="1" lang="zh-TW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重點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審辨的關鍵特徵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變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不變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 marL="396720" indent="-3967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新細明體"/>
                        </a:rPr>
                        <a:t>1. </a:t>
                      </a:r>
                      <a:r>
                        <a:rPr b="0" lang="zh-TW" sz="2000" spc="-1" strike="noStrike">
                          <a:solidFill>
                            <a:srgbClr val="080808"/>
                          </a:solidFill>
                          <a:latin typeface="新細明體"/>
                        </a:rPr>
                        <a:t>等差數列求通項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 marL="396720" indent="-3967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新細明體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新細明體"/>
                        </a:rPr>
                        <a:t>(</a:t>
                      </a:r>
                      <a:r>
                        <a:rPr b="0" lang="zh-TW" sz="2000" spc="-1" strike="noStrike">
                          <a:solidFill>
                            <a:srgbClr val="080808"/>
                          </a:solidFill>
                          <a:latin typeface="新細明體"/>
                        </a:rPr>
                        <a:t>完成工作紙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新細明體"/>
                        </a:rPr>
                        <a:t>1a)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CF1: </a:t>
                      </a:r>
                      <a:r>
                        <a:rPr b="0" lang="zh-TW" sz="20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數列之間有固定的 </a:t>
                      </a:r>
                      <a:r>
                        <a:rPr b="0" lang="zh-TW" sz="20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"</a:t>
                      </a:r>
                      <a:r>
                        <a:rPr b="0" lang="zh-TW" sz="20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差</a:t>
                      </a:r>
                      <a:r>
                        <a:rPr b="0" lang="zh-TW" sz="20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"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項與項之間的公差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第一項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新細明體"/>
                        </a:rPr>
                        <a:t>2. </a:t>
                      </a:r>
                      <a:r>
                        <a:rPr b="0" lang="zh-TW" sz="2000" spc="-1" strike="noStrike">
                          <a:solidFill>
                            <a:srgbClr val="080808"/>
                          </a:solidFill>
                          <a:latin typeface="新細明體"/>
                        </a:rPr>
                        <a:t>等差數列求通項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新細明體"/>
                        </a:rPr>
                        <a:t>(</a:t>
                      </a:r>
                      <a:r>
                        <a:rPr b="0" lang="zh-TW" sz="2000" spc="-1" strike="noStrike">
                          <a:solidFill>
                            <a:srgbClr val="080808"/>
                          </a:solidFill>
                          <a:latin typeface="新細明體"/>
                        </a:rPr>
                        <a:t>完成工作紙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新細明體"/>
                        </a:rPr>
                        <a:t>1b)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CF1: </a:t>
                      </a:r>
                      <a:r>
                        <a:rPr b="0" lang="zh-TW" sz="20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數列之間有固定的 </a:t>
                      </a:r>
                      <a:r>
                        <a:rPr b="0" lang="zh-TW" sz="20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"</a:t>
                      </a:r>
                      <a:r>
                        <a:rPr b="0" lang="zh-TW" sz="20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差</a:t>
                      </a:r>
                      <a:r>
                        <a:rPr b="0" lang="zh-TW" sz="20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"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第一項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項與項之間的公差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新細明體"/>
                        </a:rPr>
                        <a:t>3. </a:t>
                      </a:r>
                      <a:r>
                        <a:rPr b="0" lang="zh-TW" sz="2000" spc="-1" strike="noStrike">
                          <a:solidFill>
                            <a:srgbClr val="080808"/>
                          </a:solidFill>
                          <a:latin typeface="新細明體"/>
                        </a:rPr>
                        <a:t>等比數列求通項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新細明體"/>
                        </a:rPr>
                        <a:t>(</a:t>
                      </a:r>
                      <a:r>
                        <a:rPr b="0" lang="zh-TW" sz="2000" spc="-1" strike="noStrike">
                          <a:solidFill>
                            <a:srgbClr val="080808"/>
                          </a:solidFill>
                          <a:latin typeface="新細明體"/>
                        </a:rPr>
                        <a:t>完成工作紙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新細明體"/>
                        </a:rPr>
                        <a:t>2a)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CF2: </a:t>
                      </a:r>
                      <a:r>
                        <a:rPr b="0" lang="zh-TW" sz="20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數列之間有固定的 </a:t>
                      </a:r>
                      <a:r>
                        <a:rPr b="0" lang="zh-TW" sz="20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"</a:t>
                      </a:r>
                      <a:r>
                        <a:rPr b="0" lang="zh-TW" sz="20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比</a:t>
                      </a:r>
                      <a:r>
                        <a:rPr b="0" lang="zh-TW" sz="20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"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項與項之間的公比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第一項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新細明體"/>
                        </a:rPr>
                        <a:t>4. </a:t>
                      </a:r>
                      <a:r>
                        <a:rPr b="0" lang="zh-TW" sz="2000" spc="-1" strike="noStrike">
                          <a:solidFill>
                            <a:srgbClr val="080808"/>
                          </a:solidFill>
                          <a:latin typeface="新細明體"/>
                        </a:rPr>
                        <a:t>等比數列求通項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新細明體"/>
                        </a:rPr>
                        <a:t>(</a:t>
                      </a:r>
                      <a:r>
                        <a:rPr b="0" lang="zh-TW" sz="2000" spc="-1" strike="noStrike">
                          <a:solidFill>
                            <a:srgbClr val="080808"/>
                          </a:solidFill>
                          <a:latin typeface="新細明體"/>
                        </a:rPr>
                        <a:t>完成工作紙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新細明體"/>
                        </a:rPr>
                        <a:t>2b)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CF2: </a:t>
                      </a:r>
                      <a:r>
                        <a:rPr b="0" lang="zh-TW" sz="20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數列之間有固定的 </a:t>
                      </a:r>
                      <a:r>
                        <a:rPr b="0" lang="zh-TW" sz="20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"</a:t>
                      </a:r>
                      <a:r>
                        <a:rPr b="0" lang="zh-TW" sz="20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比</a:t>
                      </a:r>
                      <a:r>
                        <a:rPr b="0" lang="zh-TW" sz="20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"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第一項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項與項之間的公比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987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2" name="Rectangle 30"/>
          <p:cNvSpPr/>
          <p:nvPr/>
        </p:nvSpPr>
        <p:spPr>
          <a:xfrm>
            <a:off x="732960" y="1139760"/>
            <a:ext cx="250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80808"/>
                </a:solidFill>
                <a:latin typeface="Arial"/>
              </a:rPr>
              <a:t>教節：</a:t>
            </a: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__2__</a:t>
            </a:r>
            <a:r>
              <a:rPr b="1" lang="zh-TW" sz="1800" spc="-1" strike="noStrike">
                <a:solidFill>
                  <a:srgbClr val="080808"/>
                </a:solidFill>
                <a:latin typeface="Arial"/>
              </a:rPr>
              <a:t>（約 </a:t>
            </a: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60 </a:t>
            </a:r>
            <a:r>
              <a:rPr b="1" lang="zh-TW" sz="1800" spc="-1" strike="noStrike">
                <a:solidFill>
                  <a:srgbClr val="080808"/>
                </a:solidFill>
                <a:latin typeface="Arial"/>
              </a:rPr>
              <a:t>分鐘）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3" name="投影片編號版面配置區 1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2360-5DA2-4664-BCD6-E7728F9A8A6A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39ac"/>
                </a:solidFill>
                <a:latin typeface="Arial"/>
              </a:rPr>
              <a:t>第一輪教學實踐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教時： 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兩節，約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60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分鐘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學生表現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改善建議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加強運用數學語言、加入小結及總結、調整題目的數量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36" name=""/>
          <p:cNvGraphicFramePr/>
          <p:nvPr/>
        </p:nvGraphicFramePr>
        <p:xfrm>
          <a:off x="6300720" y="1557360"/>
          <a:ext cx="2266920" cy="3311640"/>
        </p:xfrm>
        <a:graphic>
          <a:graphicData uri="http://schemas.openxmlformats.org/drawingml/2006/table">
            <a:tbl>
              <a:tblPr/>
              <a:tblGrid>
                <a:gridCol w="755640"/>
                <a:gridCol w="755640"/>
                <a:gridCol w="755640"/>
              </a:tblGrid>
              <a:tr h="4078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HK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題目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HK" sz="1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前測答對率</a:t>
                      </a:r>
                      <a:endParaRPr b="0" lang="en-US" sz="1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HK" sz="1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後測答對率</a:t>
                      </a:r>
                      <a:endParaRPr b="0" lang="en-US" sz="1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2682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83.33%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87.50%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2685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88.89%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93.75%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2682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72.22%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75.00%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2682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4a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6.67%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75.00%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2700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4b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1.11%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56.25%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856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a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.56%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.00%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2700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5b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61.11%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81.25%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2682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6a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5.56%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68.75%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2682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6b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66.67%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75.00%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2685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27.78%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81.25%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pic>
        <p:nvPicPr>
          <p:cNvPr id="737" name="Picture 2" descr=""/>
          <p:cNvPicPr/>
          <p:nvPr/>
        </p:nvPicPr>
        <p:blipFill>
          <a:blip r:embed="rId1"/>
          <a:srcRect l="0" t="0" r="64686" b="60045"/>
          <a:stretch/>
        </p:blipFill>
        <p:spPr>
          <a:xfrm>
            <a:off x="3203640" y="3471840"/>
            <a:ext cx="2359080" cy="922320"/>
          </a:xfrm>
          <a:prstGeom prst="rect">
            <a:avLst/>
          </a:prstGeom>
          <a:ln w="9360">
            <a:solidFill>
              <a:srgbClr val="080808"/>
            </a:solidFill>
            <a:miter/>
          </a:ln>
        </p:spPr>
      </p:pic>
      <p:sp>
        <p:nvSpPr>
          <p:cNvPr id="738" name="投影片編號版面配置區 2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2A08-21FE-475E-A053-0B68B93ABB4E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39ac"/>
                </a:solidFill>
                <a:latin typeface="Arial"/>
              </a:rPr>
              <a:t>第二輪教學實踐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pic>
        <p:nvPicPr>
          <p:cNvPr id="740" name="Picture 1" descr=""/>
          <p:cNvPicPr/>
          <p:nvPr/>
        </p:nvPicPr>
        <p:blipFill>
          <a:blip r:embed="rId1"/>
          <a:srcRect l="32295" t="23059" r="6719" b="38996"/>
          <a:stretch/>
        </p:blipFill>
        <p:spPr>
          <a:xfrm>
            <a:off x="92160" y="1733400"/>
            <a:ext cx="8959680" cy="3135600"/>
          </a:xfrm>
          <a:prstGeom prst="rect">
            <a:avLst/>
          </a:prstGeom>
          <a:ln w="0">
            <a:noFill/>
          </a:ln>
        </p:spPr>
      </p:pic>
      <p:sp>
        <p:nvSpPr>
          <p:cNvPr id="741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3424-A2CF-4C67-BE0E-B11F037154F3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42" name="Picture 2" descr=""/>
          <p:cNvPicPr/>
          <p:nvPr/>
        </p:nvPicPr>
        <p:blipFill>
          <a:blip r:embed="rId2"/>
          <a:srcRect l="33333" t="19167" r="42850" b="67724"/>
          <a:stretch/>
        </p:blipFill>
        <p:spPr>
          <a:xfrm>
            <a:off x="1476360" y="4869000"/>
            <a:ext cx="2657520" cy="823680"/>
          </a:xfrm>
          <a:prstGeom prst="rect">
            <a:avLst/>
          </a:prstGeom>
          <a:ln w="9360">
            <a:solidFill>
              <a:srgbClr val="080808"/>
            </a:solidFill>
            <a:miter/>
          </a:ln>
        </p:spPr>
      </p:pic>
      <p:pic>
        <p:nvPicPr>
          <p:cNvPr id="743" name="Picture 2" descr=""/>
          <p:cNvPicPr/>
          <p:nvPr/>
        </p:nvPicPr>
        <p:blipFill>
          <a:blip r:embed="rId3"/>
          <a:srcRect l="33333" t="49382" r="51061" b="40178"/>
          <a:stretch/>
        </p:blipFill>
        <p:spPr>
          <a:xfrm>
            <a:off x="1476360" y="5692680"/>
            <a:ext cx="1720800" cy="647640"/>
          </a:xfrm>
          <a:prstGeom prst="rect">
            <a:avLst/>
          </a:prstGeom>
          <a:ln w="9360">
            <a:solidFill>
              <a:srgbClr val="080808"/>
            </a:solidFill>
            <a:miter/>
          </a:ln>
        </p:spPr>
      </p:pic>
      <p:sp>
        <p:nvSpPr>
          <p:cNvPr id="744" name="圓角矩形圖說文字 3"/>
          <p:cNvSpPr/>
          <p:nvPr/>
        </p:nvSpPr>
        <p:spPr>
          <a:xfrm>
            <a:off x="4643280" y="5280120"/>
            <a:ext cx="4199040" cy="649080"/>
          </a:xfrm>
          <a:prstGeom prst="wedgeRoundRectCallout">
            <a:avLst>
              <a:gd name="adj1" fmla="val -71634"/>
              <a:gd name="adj2" fmla="val -135916"/>
              <a:gd name="adj3" fmla="val 16667"/>
            </a:avLst>
          </a:prstGeom>
          <a:solidFill>
            <a:srgbClr val="f2f2f2"/>
          </a:solidFill>
          <a:ln w="25560">
            <a:solidFill>
              <a:srgbClr val="347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---</a:t>
            </a: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 </a:t>
            </a: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增加 </a:t>
            </a:r>
            <a:r>
              <a:rPr b="1" lang="en-US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CF3 : </a:t>
            </a: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運用首項及公差的關係求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               </a:t>
            </a: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數列的通項</a:t>
            </a:r>
            <a:r>
              <a:rPr b="1" lang="en-US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2" descr=""/>
          <p:cNvPicPr/>
          <p:nvPr/>
        </p:nvPicPr>
        <p:blipFill>
          <a:blip r:embed="rId1"/>
          <a:srcRect l="41299" t="15479" r="6640" b="18313"/>
          <a:stretch/>
        </p:blipFill>
        <p:spPr>
          <a:xfrm>
            <a:off x="250920" y="366840"/>
            <a:ext cx="7200720" cy="5151240"/>
          </a:xfrm>
          <a:prstGeom prst="rect">
            <a:avLst/>
          </a:prstGeom>
          <a:ln w="0">
            <a:noFill/>
          </a:ln>
        </p:spPr>
      </p:pic>
      <p:sp>
        <p:nvSpPr>
          <p:cNvPr id="746" name="圓角矩形圖說文字 3"/>
          <p:cNvSpPr/>
          <p:nvPr/>
        </p:nvSpPr>
        <p:spPr>
          <a:xfrm>
            <a:off x="5796000" y="549360"/>
            <a:ext cx="3097080" cy="647640"/>
          </a:xfrm>
          <a:prstGeom prst="wedgeRoundRectCallout">
            <a:avLst>
              <a:gd name="adj1" fmla="val -117115"/>
              <a:gd name="adj2" fmla="val 63972"/>
              <a:gd name="adj3" fmla="val 16667"/>
            </a:avLst>
          </a:prstGeom>
          <a:solidFill>
            <a:srgbClr val="f2f2f2"/>
          </a:solidFill>
          <a:ln w="25560">
            <a:solidFill>
              <a:srgbClr val="347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---</a:t>
            </a: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 </a:t>
            </a: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加強講解有關的數學關鍵詞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7" name="圓角矩形圖說文字 6"/>
          <p:cNvSpPr/>
          <p:nvPr/>
        </p:nvSpPr>
        <p:spPr>
          <a:xfrm>
            <a:off x="6227640" y="2349360"/>
            <a:ext cx="2665440" cy="432000"/>
          </a:xfrm>
          <a:prstGeom prst="wedgeRoundRectCallout">
            <a:avLst>
              <a:gd name="adj1" fmla="val -84236"/>
              <a:gd name="adj2" fmla="val -58152"/>
              <a:gd name="adj3" fmla="val 16667"/>
            </a:avLst>
          </a:prstGeom>
          <a:solidFill>
            <a:srgbClr val="f2f2f2"/>
          </a:solidFill>
          <a:ln w="25560">
            <a:solidFill>
              <a:srgbClr val="347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---</a:t>
            </a: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 </a:t>
            </a: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減少工作紙的數量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8" name="圓角矩形圖說文字 7"/>
          <p:cNvSpPr/>
          <p:nvPr/>
        </p:nvSpPr>
        <p:spPr>
          <a:xfrm>
            <a:off x="5940360" y="3141720"/>
            <a:ext cx="3105360" cy="431640"/>
          </a:xfrm>
          <a:prstGeom prst="wedgeRoundRectCallout">
            <a:avLst>
              <a:gd name="adj1" fmla="val -163870"/>
              <a:gd name="adj2" fmla="val -130902"/>
              <a:gd name="adj3" fmla="val 16667"/>
            </a:avLst>
          </a:prstGeom>
          <a:solidFill>
            <a:srgbClr val="f2f2f2"/>
          </a:solidFill>
          <a:ln w="25560">
            <a:solidFill>
              <a:srgbClr val="347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---</a:t>
            </a: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 </a:t>
            </a: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加入小結</a:t>
            </a:r>
            <a:r>
              <a:rPr b="1" lang="en-US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;</a:t>
            </a: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強調有關的步驟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9" name="圓角矩形圖說文字 8"/>
          <p:cNvSpPr/>
          <p:nvPr/>
        </p:nvSpPr>
        <p:spPr>
          <a:xfrm>
            <a:off x="395280" y="3409920"/>
            <a:ext cx="3313080" cy="2971800"/>
          </a:xfrm>
          <a:prstGeom prst="pie">
            <a:avLst/>
          </a:prstGeom>
          <a:solidFill>
            <a:srgbClr val="f2f2f2"/>
          </a:solidFill>
          <a:ln w="25560">
            <a:solidFill>
              <a:srgbClr val="347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---</a:t>
            </a: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 </a:t>
            </a: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總結</a:t>
            </a:r>
            <a:r>
              <a:rPr b="1" lang="en-US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;</a:t>
            </a: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寫出有關的數學關鍵詞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0" name="投影片編號版面配置區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9C80-8A34-4D47-AE11-F8DC394AAB4E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2" descr=""/>
          <p:cNvPicPr/>
          <p:nvPr/>
        </p:nvPicPr>
        <p:blipFill>
          <a:blip r:embed="rId1"/>
          <a:srcRect l="33333" t="14446" r="1563" b="22779"/>
          <a:stretch/>
        </p:blipFill>
        <p:spPr>
          <a:xfrm>
            <a:off x="330120" y="612720"/>
            <a:ext cx="7183440" cy="3895920"/>
          </a:xfrm>
          <a:prstGeom prst="rect">
            <a:avLst/>
          </a:prstGeom>
          <a:ln w="9360">
            <a:solidFill>
              <a:srgbClr val="080808"/>
            </a:solidFill>
            <a:miter/>
          </a:ln>
        </p:spPr>
      </p:pic>
      <p:pic>
        <p:nvPicPr>
          <p:cNvPr id="752" name="Picture 3" descr=""/>
          <p:cNvPicPr/>
          <p:nvPr/>
        </p:nvPicPr>
        <p:blipFill>
          <a:blip r:embed="rId2"/>
          <a:srcRect l="33291" t="50002" r="1843" b="15790"/>
          <a:stretch/>
        </p:blipFill>
        <p:spPr>
          <a:xfrm>
            <a:off x="1547640" y="4597560"/>
            <a:ext cx="6764400" cy="2006280"/>
          </a:xfrm>
          <a:prstGeom prst="rect">
            <a:avLst/>
          </a:prstGeom>
          <a:ln w="9360">
            <a:solidFill>
              <a:srgbClr val="080808"/>
            </a:solidFill>
            <a:miter/>
          </a:ln>
        </p:spPr>
      </p:pic>
      <p:sp>
        <p:nvSpPr>
          <p:cNvPr id="753" name="投影片編號版面配置區 2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3F9B-534F-4A4B-A130-0CCD435F48EC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4" name="文字方塊 3"/>
          <p:cNvSpPr/>
          <p:nvPr/>
        </p:nvSpPr>
        <p:spPr>
          <a:xfrm>
            <a:off x="543600" y="24300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工作紙一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(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節錄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投影片編號版面配置區 2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23B6-82E9-42E1-87E6-0A811B9F4CCC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756" name="群組 3"/>
          <p:cNvGrpSpPr/>
          <p:nvPr/>
        </p:nvGrpSpPr>
        <p:grpSpPr>
          <a:xfrm>
            <a:off x="250920" y="549360"/>
            <a:ext cx="7921440" cy="4784760"/>
            <a:chOff x="250920" y="549360"/>
            <a:chExt cx="7921440" cy="4784760"/>
          </a:xfrm>
        </p:grpSpPr>
        <p:pic>
          <p:nvPicPr>
            <p:cNvPr id="757" name="Picture 2" descr=""/>
            <p:cNvPicPr/>
            <p:nvPr/>
          </p:nvPicPr>
          <p:blipFill>
            <a:blip r:embed="rId1"/>
            <a:srcRect l="41053" t="27601" r="6579" b="20938"/>
            <a:stretch/>
          </p:blipFill>
          <p:spPr>
            <a:xfrm>
              <a:off x="250920" y="849960"/>
              <a:ext cx="7921440" cy="448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3" descr=""/>
            <p:cNvPicPr/>
            <p:nvPr/>
          </p:nvPicPr>
          <p:blipFill>
            <a:blip r:embed="rId2"/>
            <a:srcRect l="41315" t="11755" r="6711" b="83335"/>
            <a:stretch/>
          </p:blipFill>
          <p:spPr>
            <a:xfrm>
              <a:off x="288000" y="549360"/>
              <a:ext cx="7862040" cy="42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圓角矩形圖說文字 7"/>
          <p:cNvSpPr/>
          <p:nvPr/>
        </p:nvSpPr>
        <p:spPr>
          <a:xfrm>
            <a:off x="5796000" y="549360"/>
            <a:ext cx="3097080" cy="647640"/>
          </a:xfrm>
          <a:prstGeom prst="wedgeRoundRectCallout">
            <a:avLst>
              <a:gd name="adj1" fmla="val -117115"/>
              <a:gd name="adj2" fmla="val 63972"/>
              <a:gd name="adj3" fmla="val 16667"/>
            </a:avLst>
          </a:prstGeom>
          <a:solidFill>
            <a:srgbClr val="f2f2f2"/>
          </a:solidFill>
          <a:ln w="25560">
            <a:solidFill>
              <a:srgbClr val="347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---</a:t>
            </a: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 </a:t>
            </a: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加強講解有關的數學關鍵詞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0" name="圓角矩形圖說文字 8"/>
          <p:cNvSpPr/>
          <p:nvPr/>
        </p:nvSpPr>
        <p:spPr>
          <a:xfrm>
            <a:off x="6186600" y="1773360"/>
            <a:ext cx="2663640" cy="431640"/>
          </a:xfrm>
          <a:prstGeom prst="wedgeRoundRectCallout">
            <a:avLst>
              <a:gd name="adj1" fmla="val -84236"/>
              <a:gd name="adj2" fmla="val -58152"/>
              <a:gd name="adj3" fmla="val 16667"/>
            </a:avLst>
          </a:prstGeom>
          <a:solidFill>
            <a:srgbClr val="f2f2f2"/>
          </a:solidFill>
          <a:ln w="25560">
            <a:solidFill>
              <a:srgbClr val="347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---</a:t>
            </a: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 </a:t>
            </a: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減少工作紙的數量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1" name="圓角矩形圖說文字 9"/>
          <p:cNvSpPr/>
          <p:nvPr/>
        </p:nvSpPr>
        <p:spPr>
          <a:xfrm>
            <a:off x="6039000" y="2565360"/>
            <a:ext cx="3105000" cy="432000"/>
          </a:xfrm>
          <a:prstGeom prst="wedgeRoundRectCallout">
            <a:avLst>
              <a:gd name="adj1" fmla="val -163870"/>
              <a:gd name="adj2" fmla="val -130902"/>
              <a:gd name="adj3" fmla="val 16667"/>
            </a:avLst>
          </a:prstGeom>
          <a:solidFill>
            <a:srgbClr val="f2f2f2"/>
          </a:solidFill>
          <a:ln w="25560">
            <a:solidFill>
              <a:srgbClr val="347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---</a:t>
            </a: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 </a:t>
            </a: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加入小結</a:t>
            </a:r>
            <a:r>
              <a:rPr b="1" lang="en-US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;</a:t>
            </a: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強調有關的步驟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2" name="圓角矩形圖說文字 8"/>
          <p:cNvSpPr/>
          <p:nvPr/>
        </p:nvSpPr>
        <p:spPr>
          <a:xfrm>
            <a:off x="539640" y="2971800"/>
            <a:ext cx="3311640" cy="2973240"/>
          </a:xfrm>
          <a:prstGeom prst="pie">
            <a:avLst/>
          </a:prstGeom>
          <a:solidFill>
            <a:srgbClr val="f2f2f2"/>
          </a:solidFill>
          <a:ln w="25560">
            <a:solidFill>
              <a:srgbClr val="347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---</a:t>
            </a: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 </a:t>
            </a: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總結</a:t>
            </a:r>
            <a:r>
              <a:rPr b="1" lang="en-US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;</a:t>
            </a: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寫出有關的數學關鍵詞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投影片編號版面配置區 2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19F2-8A5D-4035-A09E-BADCA8E4C723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4" name="文字方塊 3"/>
          <p:cNvSpPr/>
          <p:nvPr/>
        </p:nvSpPr>
        <p:spPr>
          <a:xfrm>
            <a:off x="383400" y="243000"/>
            <a:ext cx="13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工作紙二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(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節錄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65" name="Picture 2" descr=""/>
          <p:cNvPicPr/>
          <p:nvPr/>
        </p:nvPicPr>
        <p:blipFill>
          <a:blip r:embed="rId1"/>
          <a:srcRect l="40315" t="12591" r="10624" b="41484"/>
          <a:stretch/>
        </p:blipFill>
        <p:spPr>
          <a:xfrm>
            <a:off x="539640" y="612720"/>
            <a:ext cx="7355160" cy="3871800"/>
          </a:xfrm>
          <a:prstGeom prst="rect">
            <a:avLst/>
          </a:prstGeom>
          <a:ln w="9360">
            <a:solidFill>
              <a:srgbClr val="080808"/>
            </a:solidFill>
            <a:miter/>
          </a:ln>
        </p:spPr>
      </p:pic>
      <p:pic>
        <p:nvPicPr>
          <p:cNvPr id="766" name="Picture 3" descr=""/>
          <p:cNvPicPr/>
          <p:nvPr/>
        </p:nvPicPr>
        <p:blipFill>
          <a:blip r:embed="rId2"/>
          <a:srcRect l="40209" t="62779" r="11772" b="13333"/>
          <a:stretch/>
        </p:blipFill>
        <p:spPr>
          <a:xfrm>
            <a:off x="1028880" y="4610160"/>
            <a:ext cx="7205400" cy="2016000"/>
          </a:xfrm>
          <a:prstGeom prst="rect">
            <a:avLst/>
          </a:prstGeom>
          <a:ln w="9360">
            <a:solidFill>
              <a:srgbClr val="080808"/>
            </a:solidFill>
            <a:miter/>
          </a:ln>
        </p:spPr>
      </p:pic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投影片編號版面配置區 2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588D-D8DA-4D3F-964C-8BE9AB43ECD9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768" name="群組 3"/>
          <p:cNvGrpSpPr/>
          <p:nvPr/>
        </p:nvGrpSpPr>
        <p:grpSpPr>
          <a:xfrm>
            <a:off x="324000" y="189000"/>
            <a:ext cx="7289640" cy="3962160"/>
            <a:chOff x="324000" y="189000"/>
            <a:chExt cx="7289640" cy="3962160"/>
          </a:xfrm>
        </p:grpSpPr>
        <p:pic>
          <p:nvPicPr>
            <p:cNvPr id="769" name="Picture 2" descr=""/>
            <p:cNvPicPr/>
            <p:nvPr/>
          </p:nvPicPr>
          <p:blipFill>
            <a:blip r:embed="rId1"/>
            <a:srcRect l="41252" t="12038" r="6667" b="46114"/>
            <a:stretch/>
          </p:blipFill>
          <p:spPr>
            <a:xfrm>
              <a:off x="324000" y="543960"/>
              <a:ext cx="7289640" cy="360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3" descr=""/>
            <p:cNvPicPr/>
            <p:nvPr/>
          </p:nvPicPr>
          <p:blipFill>
            <a:blip r:embed="rId2"/>
            <a:srcRect l="41364" t="45862" r="6764" b="49326"/>
            <a:stretch/>
          </p:blipFill>
          <p:spPr>
            <a:xfrm>
              <a:off x="345240" y="189000"/>
              <a:ext cx="7260480" cy="41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圓角矩形圖說文字 10"/>
          <p:cNvSpPr/>
          <p:nvPr/>
        </p:nvSpPr>
        <p:spPr>
          <a:xfrm>
            <a:off x="6156360" y="1281240"/>
            <a:ext cx="2736720" cy="503280"/>
          </a:xfrm>
          <a:prstGeom prst="wedgeRoundRectCallout">
            <a:avLst>
              <a:gd name="adj1" fmla="val -160509"/>
              <a:gd name="adj2" fmla="val -59069"/>
              <a:gd name="adj3" fmla="val 16667"/>
            </a:avLst>
          </a:prstGeom>
          <a:solidFill>
            <a:srgbClr val="f2f2f2"/>
          </a:solidFill>
          <a:ln w="25560">
            <a:solidFill>
              <a:srgbClr val="347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---</a:t>
            </a: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 </a:t>
            </a: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混合等差及等比的題目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2" name="圓角矩形圖說文字 11"/>
          <p:cNvSpPr/>
          <p:nvPr/>
        </p:nvSpPr>
        <p:spPr>
          <a:xfrm>
            <a:off x="5435640" y="2131920"/>
            <a:ext cx="3457440" cy="432000"/>
          </a:xfrm>
          <a:prstGeom prst="wedgeRoundRectCallout">
            <a:avLst>
              <a:gd name="adj1" fmla="val -115541"/>
              <a:gd name="adj2" fmla="val -106652"/>
              <a:gd name="adj3" fmla="val 16667"/>
            </a:avLst>
          </a:prstGeom>
          <a:solidFill>
            <a:srgbClr val="f2f2f2"/>
          </a:solidFill>
          <a:ln w="25560">
            <a:solidFill>
              <a:srgbClr val="347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---</a:t>
            </a: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 </a:t>
            </a: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加入適量的應用題、</a:t>
            </a:r>
            <a:r>
              <a:rPr b="1" lang="en-US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DSE</a:t>
            </a: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題目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3" name="圓角矩形圖說文字 12"/>
          <p:cNvSpPr/>
          <p:nvPr/>
        </p:nvSpPr>
        <p:spPr>
          <a:xfrm>
            <a:off x="5867280" y="4017960"/>
            <a:ext cx="1827360" cy="431640"/>
          </a:xfrm>
          <a:prstGeom prst="wedgeRoundRectCallout">
            <a:avLst>
              <a:gd name="adj1" fmla="val -163870"/>
              <a:gd name="adj2" fmla="val -130902"/>
              <a:gd name="adj3" fmla="val 16667"/>
            </a:avLst>
          </a:prstGeom>
          <a:solidFill>
            <a:srgbClr val="f2f2f2"/>
          </a:solidFill>
          <a:ln w="25560">
            <a:solidFill>
              <a:srgbClr val="347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---</a:t>
            </a: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 </a:t>
            </a: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課堂總結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File"/>
          <p:cNvSpPr/>
          <p:nvPr/>
        </p:nvSpPr>
        <p:spPr>
          <a:xfrm>
            <a:off x="633240" y="398520"/>
            <a:ext cx="1368720" cy="11253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6600ff"/>
                </a:solidFill>
                <a:latin typeface="Times New Roman"/>
              </a:rPr>
              <a:t>選擇研究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6600ff"/>
                </a:solidFill>
                <a:latin typeface="Times New Roman"/>
              </a:rPr>
              <a:t>的課題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V2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0" name="Text Box 3"/>
          <p:cNvSpPr/>
          <p:nvPr/>
        </p:nvSpPr>
        <p:spPr>
          <a:xfrm>
            <a:off x="2666880" y="457200"/>
            <a:ext cx="60166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30000"/>
              </a:lnSpc>
              <a:buClr>
                <a:srgbClr val="ffcc66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cc66"/>
                </a:solidFill>
                <a:latin typeface="Times New Roman"/>
              </a:rPr>
              <a:t>課題是否值得研究？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290520" indent="-290520">
              <a:lnSpc>
                <a:spcPct val="130000"/>
              </a:lnSpc>
              <a:buClr>
                <a:srgbClr val="ffcc66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cc66"/>
                </a:solidFill>
                <a:latin typeface="Times New Roman"/>
              </a:rPr>
              <a:t>期望學生在這課題學到什麼？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1" name="Rectangle 4"/>
          <p:cNvSpPr/>
          <p:nvPr/>
        </p:nvSpPr>
        <p:spPr>
          <a:xfrm>
            <a:off x="1875960" y="1843200"/>
            <a:ext cx="557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Times New Roman"/>
                <a:ea typeface="標楷體"/>
              </a:rPr>
              <a:t>V2:</a:t>
            </a:r>
            <a:r>
              <a:rPr b="1" lang="en-GB" sz="2800" spc="-1" strike="noStrike">
                <a:solidFill>
                  <a:srgbClr val="006600"/>
                </a:solidFill>
                <a:latin typeface="Times New Roman"/>
                <a:ea typeface="標楷體"/>
              </a:rPr>
              <a:t>	</a:t>
            </a:r>
            <a:r>
              <a:rPr b="1" lang="zh-TW" sz="2800" spc="-1" strike="noStrike">
                <a:solidFill>
                  <a:srgbClr val="006600"/>
                </a:solidFill>
                <a:latin typeface="Times New Roman"/>
                <a:ea typeface="標楷體"/>
              </a:rPr>
              <a:t>教師對</a:t>
            </a:r>
            <a:r>
              <a:rPr b="1" lang="zh-TW" sz="2800" spc="-1" strike="noStrike" u="sng">
                <a:solidFill>
                  <a:srgbClr val="ffcc66"/>
                </a:solidFill>
                <a:uFillTx/>
                <a:latin typeface="Times New Roman"/>
                <a:ea typeface="標楷體"/>
              </a:rPr>
              <a:t>何謂適切學習內容</a:t>
            </a:r>
            <a:r>
              <a:rPr b="1" lang="zh-TW" sz="2800" spc="-1" strike="noStrike">
                <a:solidFill>
                  <a:srgbClr val="006600"/>
                </a:solidFill>
                <a:latin typeface="Times New Roman"/>
                <a:ea typeface="標楷體"/>
              </a:rPr>
              <a:t>的不同見解及處理方式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558720" y="2674800"/>
            <a:ext cx="788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  <a:ea typeface="Arial"/>
              </a:rPr>
              <a:t>--- 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  <a:ea typeface="Arial"/>
              </a:rPr>
              <a:t>通過觀察數列的規律，找出通項，以便將來處理難度較高的數列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  <a:ea typeface="Arial"/>
              </a:rPr>
              <a:t>--- </a:t>
            </a:r>
            <a:r>
              <a:rPr b="0" lang="zh-TW" sz="2000" spc="-1" strike="noStrike" u="sng">
                <a:solidFill>
                  <a:srgbClr val="0066ff"/>
                </a:solidFill>
                <a:uFillTx/>
                <a:latin typeface="新細明體"/>
                <a:ea typeface="Arial"/>
                <a:hlinkClick r:id="rId1"/>
              </a:rPr>
              <a:t>運用代數符號表示數型</a:t>
            </a:r>
            <a:r>
              <a:rPr b="0" lang="zh-TW" sz="2000" spc="-1" strike="noStrike">
                <a:solidFill>
                  <a:srgbClr val="080808"/>
                </a:solidFill>
                <a:latin typeface="新細明體"/>
                <a:ea typeface="Arial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新細明體"/>
                <a:ea typeface="Arial"/>
              </a:rPr>
              <a:t>---  </a:t>
            </a:r>
            <a:r>
              <a:rPr b="0" lang="zh-TW" sz="2000" spc="-1" strike="noStrike" u="sng">
                <a:solidFill>
                  <a:srgbClr val="0066ff"/>
                </a:solidFill>
                <a:uFillTx/>
                <a:latin typeface="新細明體"/>
                <a:ea typeface="Arial"/>
                <a:hlinkClick r:id="rId2"/>
              </a:rPr>
              <a:t>訂立及運用數列的通項</a:t>
            </a:r>
            <a:r>
              <a:rPr b="0" lang="zh-TW" sz="2000" spc="-1" strike="noStrike">
                <a:solidFill>
                  <a:srgbClr val="080808"/>
                </a:solidFill>
                <a:latin typeface="新細明體"/>
                <a:ea typeface="Arial"/>
              </a:rPr>
              <a:t> 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3" name="投影片編號版面配置區 2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6E10-7486-4549-BD76-8B7B9F01A5EE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664" name="Picture 5" descr=""/>
          <p:cNvPicPr/>
          <p:nvPr/>
        </p:nvPicPr>
        <p:blipFill>
          <a:blip r:embed="rId3"/>
          <a:stretch/>
        </p:blipFill>
        <p:spPr>
          <a:xfrm>
            <a:off x="3833640" y="3286080"/>
            <a:ext cx="5200920" cy="2548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投影片編號版面配置區 2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23F9-602E-4251-9361-CAE2AFF27E28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5" name="文字方塊 3"/>
          <p:cNvSpPr/>
          <p:nvPr/>
        </p:nvSpPr>
        <p:spPr>
          <a:xfrm>
            <a:off x="383400" y="243000"/>
            <a:ext cx="13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工作紙三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(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節錄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776" name="群組 5"/>
          <p:cNvGrpSpPr/>
          <p:nvPr/>
        </p:nvGrpSpPr>
        <p:grpSpPr>
          <a:xfrm>
            <a:off x="395280" y="1533600"/>
            <a:ext cx="7456320" cy="2952720"/>
            <a:chOff x="395280" y="1533600"/>
            <a:chExt cx="7456320" cy="2952720"/>
          </a:xfrm>
        </p:grpSpPr>
        <p:pic>
          <p:nvPicPr>
            <p:cNvPr id="777" name="Picture 4" descr=""/>
            <p:cNvPicPr/>
            <p:nvPr/>
          </p:nvPicPr>
          <p:blipFill>
            <a:blip r:embed="rId1"/>
            <a:srcRect l="40520" t="12448" r="13360" b="67514"/>
            <a:stretch/>
          </p:blipFill>
          <p:spPr>
            <a:xfrm>
              <a:off x="395280" y="1533600"/>
              <a:ext cx="7456320" cy="1807920"/>
            </a:xfrm>
            <a:prstGeom prst="rect">
              <a:avLst/>
            </a:prstGeom>
            <a:ln w="9360">
              <a:solidFill>
                <a:srgbClr val="080808"/>
              </a:solidFill>
              <a:miter/>
            </a:ln>
          </p:spPr>
        </p:pic>
        <p:pic>
          <p:nvPicPr>
            <p:cNvPr id="778" name="Picture 5" descr=""/>
            <p:cNvPicPr/>
            <p:nvPr/>
          </p:nvPicPr>
          <p:blipFill>
            <a:blip r:embed="rId2"/>
            <a:srcRect l="40520" t="51647" r="13360" b="35174"/>
            <a:stretch/>
          </p:blipFill>
          <p:spPr>
            <a:xfrm>
              <a:off x="395280" y="3297600"/>
              <a:ext cx="7456320" cy="1188720"/>
            </a:xfrm>
            <a:prstGeom prst="rect">
              <a:avLst/>
            </a:prstGeom>
            <a:ln w="9360">
              <a:solidFill>
                <a:srgbClr val="080808"/>
              </a:solidFill>
              <a:miter/>
            </a:ln>
          </p:spPr>
        </p:pic>
      </p:grpSp>
      <p:sp>
        <p:nvSpPr>
          <p:cNvPr id="779" name="圓角矩形圖說文字 8"/>
          <p:cNvSpPr/>
          <p:nvPr/>
        </p:nvSpPr>
        <p:spPr>
          <a:xfrm>
            <a:off x="7596360" y="1908000"/>
            <a:ext cx="1079280" cy="432000"/>
          </a:xfrm>
          <a:prstGeom prst="wedgeRoundRectCallout">
            <a:avLst>
              <a:gd name="adj1" fmla="val -134851"/>
              <a:gd name="adj2" fmla="val -20152"/>
              <a:gd name="adj3" fmla="val 16667"/>
            </a:avLst>
          </a:prstGeom>
          <a:solidFill>
            <a:srgbClr val="f2f2f2"/>
          </a:solidFill>
          <a:ln w="25560">
            <a:solidFill>
              <a:srgbClr val="347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DSE</a:t>
            </a: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 </a:t>
            </a: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題目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0" name="圓角矩形圖說文字 9"/>
          <p:cNvSpPr/>
          <p:nvPr/>
        </p:nvSpPr>
        <p:spPr>
          <a:xfrm>
            <a:off x="2627280" y="5057640"/>
            <a:ext cx="3097080" cy="648000"/>
          </a:xfrm>
          <a:prstGeom prst="wedgeRoundRectCallout">
            <a:avLst>
              <a:gd name="adj1" fmla="val -58685"/>
              <a:gd name="adj2" fmla="val -214009"/>
              <a:gd name="adj3" fmla="val 16667"/>
            </a:avLst>
          </a:prstGeom>
          <a:solidFill>
            <a:srgbClr val="f2f2f2"/>
          </a:solidFill>
          <a:ln w="25560">
            <a:solidFill>
              <a:srgbClr val="347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運用逆向思維判斷數列中的項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2"/>
          <p:cNvSpPr/>
          <p:nvPr/>
        </p:nvSpPr>
        <p:spPr>
          <a:xfrm>
            <a:off x="457200" y="228600"/>
            <a:ext cx="8381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00"/>
                </a:solidFill>
                <a:latin typeface="Arial"/>
              </a:rPr>
              <a:t>每輪教學間的改變及</a:t>
            </a:r>
            <a:br>
              <a:rPr sz="4400"/>
            </a:br>
            <a:r>
              <a:rPr b="0" lang="zh-TW" sz="4400" spc="-1" strike="noStrike">
                <a:solidFill>
                  <a:srgbClr val="006600"/>
                </a:solidFill>
                <a:latin typeface="Arial"/>
              </a:rPr>
              <a:t>其與學習成果的關係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2" name="投影片編號版面配置區 1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21F9-D4B5-492E-A994-0E5EA9DA105C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3" name="Rectangle 2"/>
          <p:cNvSpPr/>
          <p:nvPr/>
        </p:nvSpPr>
        <p:spPr>
          <a:xfrm>
            <a:off x="1042920" y="2492280"/>
            <a:ext cx="6050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標楷體"/>
                <a:ea typeface="標楷體"/>
              </a:rPr>
              <a:t>---</a:t>
            </a:r>
            <a:r>
              <a:rPr b="1" lang="zh-TW" sz="2400" spc="-1" strike="noStrike">
                <a:solidFill>
                  <a:srgbClr val="080808"/>
                </a:solidFill>
                <a:latin typeface="標楷體"/>
                <a:ea typeface="標楷體"/>
              </a:rPr>
              <a:t> </a:t>
            </a:r>
            <a:r>
              <a:rPr b="1" lang="zh-TW" sz="2400" spc="-1" strike="noStrike">
                <a:solidFill>
                  <a:srgbClr val="080808"/>
                </a:solidFill>
                <a:latin typeface="標楷體"/>
                <a:ea typeface="標楷體"/>
              </a:rPr>
              <a:t>加強講解有關的數學關鍵詞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標楷體"/>
                <a:ea typeface="標楷體"/>
              </a:rPr>
              <a:t>---</a:t>
            </a:r>
            <a:r>
              <a:rPr b="1" lang="zh-TW" sz="2400" spc="-1" strike="noStrike">
                <a:solidFill>
                  <a:srgbClr val="080808"/>
                </a:solidFill>
                <a:latin typeface="標楷體"/>
                <a:ea typeface="標楷體"/>
              </a:rPr>
              <a:t> </a:t>
            </a:r>
            <a:r>
              <a:rPr b="1" lang="zh-TW" sz="2400" spc="-1" strike="noStrike">
                <a:solidFill>
                  <a:srgbClr val="080808"/>
                </a:solidFill>
                <a:latin typeface="標楷體"/>
                <a:ea typeface="標楷體"/>
              </a:rPr>
              <a:t>減少工作紙的數量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標楷體"/>
                <a:ea typeface="標楷體"/>
              </a:rPr>
              <a:t>---</a:t>
            </a:r>
            <a:r>
              <a:rPr b="1" lang="zh-TW" sz="2400" spc="-1" strike="noStrike">
                <a:solidFill>
                  <a:srgbClr val="080808"/>
                </a:solidFill>
                <a:latin typeface="標楷體"/>
                <a:ea typeface="標楷體"/>
              </a:rPr>
              <a:t> </a:t>
            </a:r>
            <a:r>
              <a:rPr b="1" lang="zh-TW" sz="2400" spc="-1" strike="noStrike">
                <a:solidFill>
                  <a:srgbClr val="080808"/>
                </a:solidFill>
                <a:latin typeface="標楷體"/>
                <a:ea typeface="標楷體"/>
              </a:rPr>
              <a:t>加入小結</a:t>
            </a:r>
            <a:r>
              <a:rPr b="1" lang="en-US" sz="2400" spc="-1" strike="noStrike">
                <a:solidFill>
                  <a:srgbClr val="080808"/>
                </a:solidFill>
                <a:latin typeface="標楷體"/>
                <a:ea typeface="標楷體"/>
              </a:rPr>
              <a:t>;</a:t>
            </a:r>
            <a:r>
              <a:rPr b="1" lang="zh-TW" sz="2400" spc="-1" strike="noStrike">
                <a:solidFill>
                  <a:srgbClr val="080808"/>
                </a:solidFill>
                <a:latin typeface="標楷體"/>
                <a:ea typeface="標楷體"/>
              </a:rPr>
              <a:t>強調有關的步驟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標楷體"/>
                <a:ea typeface="標楷體"/>
              </a:rPr>
              <a:t>---</a:t>
            </a:r>
            <a:r>
              <a:rPr b="1" lang="zh-TW" sz="2400" spc="-1" strike="noStrike">
                <a:solidFill>
                  <a:srgbClr val="080808"/>
                </a:solidFill>
                <a:latin typeface="標楷體"/>
                <a:ea typeface="標楷體"/>
              </a:rPr>
              <a:t> </a:t>
            </a:r>
            <a:r>
              <a:rPr b="1" lang="zh-TW" sz="2400" spc="-1" strike="noStrike">
                <a:solidFill>
                  <a:srgbClr val="080808"/>
                </a:solidFill>
                <a:latin typeface="標楷體"/>
                <a:ea typeface="標楷體"/>
              </a:rPr>
              <a:t>加入總結</a:t>
            </a:r>
            <a:r>
              <a:rPr b="1" lang="en-US" sz="2400" spc="-1" strike="noStrike">
                <a:solidFill>
                  <a:srgbClr val="080808"/>
                </a:solidFill>
                <a:latin typeface="標楷體"/>
                <a:ea typeface="標楷體"/>
              </a:rPr>
              <a:t>;</a:t>
            </a:r>
            <a:r>
              <a:rPr b="1" lang="zh-TW" sz="2400" spc="-1" strike="noStrike">
                <a:solidFill>
                  <a:srgbClr val="080808"/>
                </a:solidFill>
                <a:latin typeface="標楷體"/>
                <a:ea typeface="標楷體"/>
              </a:rPr>
              <a:t>寫出有關的數學關鍵詞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群組 12"/>
          <p:cNvGrpSpPr/>
          <p:nvPr/>
        </p:nvGrpSpPr>
        <p:grpSpPr>
          <a:xfrm>
            <a:off x="178920" y="4141800"/>
            <a:ext cx="4869360" cy="2319480"/>
            <a:chOff x="178920" y="4141800"/>
            <a:chExt cx="4869360" cy="2319480"/>
          </a:xfrm>
        </p:grpSpPr>
        <p:pic>
          <p:nvPicPr>
            <p:cNvPr id="785" name="Picture 2" descr=""/>
            <p:cNvPicPr/>
            <p:nvPr/>
          </p:nvPicPr>
          <p:blipFill>
            <a:blip r:embed="rId1"/>
            <a:srcRect l="33333" t="18765" r="1563" b="34866"/>
            <a:stretch/>
          </p:blipFill>
          <p:spPr>
            <a:xfrm>
              <a:off x="178920" y="4510800"/>
              <a:ext cx="4869360" cy="1950480"/>
            </a:xfrm>
            <a:prstGeom prst="rect">
              <a:avLst/>
            </a:prstGeom>
            <a:ln w="9360">
              <a:solidFill>
                <a:srgbClr val="080808"/>
              </a:solidFill>
              <a:miter/>
            </a:ln>
          </p:spPr>
        </p:pic>
        <p:sp>
          <p:nvSpPr>
            <p:cNvPr id="786" name="文字方塊 13"/>
            <p:cNvSpPr/>
            <p:nvPr/>
          </p:nvSpPr>
          <p:spPr>
            <a:xfrm>
              <a:off x="448920" y="4141800"/>
              <a:ext cx="81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80808"/>
                  </a:solidFill>
                  <a:latin typeface="Arial"/>
                </a:rPr>
                <a:t>工作紙一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(</a:t>
              </a:r>
              <a:r>
                <a:rPr b="0" lang="zh-TW" sz="1400" spc="-1" strike="noStrike">
                  <a:solidFill>
                    <a:srgbClr val="080808"/>
                  </a:solidFill>
                  <a:latin typeface="Arial"/>
                </a:rPr>
                <a:t>節錄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787" name="群組 2"/>
          <p:cNvGrpSpPr/>
          <p:nvPr/>
        </p:nvGrpSpPr>
        <p:grpSpPr>
          <a:xfrm>
            <a:off x="755640" y="1844640"/>
            <a:ext cx="7201080" cy="2135160"/>
            <a:chOff x="755640" y="1844640"/>
            <a:chExt cx="7201080" cy="2135160"/>
          </a:xfrm>
        </p:grpSpPr>
        <p:pic>
          <p:nvPicPr>
            <p:cNvPr id="788" name="Picture 2" descr=""/>
            <p:cNvPicPr/>
            <p:nvPr/>
          </p:nvPicPr>
          <p:blipFill>
            <a:blip r:embed="rId2"/>
            <a:srcRect l="41299" t="15479" r="6640" b="79734"/>
            <a:stretch/>
          </p:blipFill>
          <p:spPr>
            <a:xfrm>
              <a:off x="755640" y="1844640"/>
              <a:ext cx="7201080" cy="372600"/>
            </a:xfrm>
            <a:prstGeom prst="rect">
              <a:avLst/>
            </a:prstGeom>
            <a:ln w="9360">
              <a:solidFill>
                <a:srgbClr val="080808"/>
              </a:solidFill>
              <a:miter/>
            </a:ln>
          </p:spPr>
        </p:pic>
        <p:pic>
          <p:nvPicPr>
            <p:cNvPr id="789" name="Picture 2" descr=""/>
            <p:cNvPicPr/>
            <p:nvPr/>
          </p:nvPicPr>
          <p:blipFill>
            <a:blip r:embed="rId3"/>
            <a:srcRect l="41299" t="32556" r="6640" b="44794"/>
            <a:stretch/>
          </p:blipFill>
          <p:spPr>
            <a:xfrm>
              <a:off x="755640" y="2217240"/>
              <a:ext cx="7201080" cy="1762560"/>
            </a:xfrm>
            <a:prstGeom prst="rect">
              <a:avLst/>
            </a:prstGeom>
            <a:ln w="9360">
              <a:solidFill>
                <a:srgbClr val="080808"/>
              </a:solidFill>
              <a:miter/>
            </a:ln>
          </p:spPr>
        </p:pic>
      </p:grpSp>
      <p:sp>
        <p:nvSpPr>
          <p:cNvPr id="790" name="PlaceHolder 1"/>
          <p:cNvSpPr>
            <a:spLocks noGrp="1"/>
          </p:cNvSpPr>
          <p:nvPr>
            <p:ph/>
          </p:nvPr>
        </p:nvSpPr>
        <p:spPr>
          <a:xfrm>
            <a:off x="609120" y="304920"/>
            <a:ext cx="75488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 algn="ctr">
              <a:lnSpc>
                <a:spcPct val="120000"/>
              </a:lnSpc>
              <a:spcAft>
                <a:spcPts val="27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00"/>
                </a:solidFill>
                <a:latin typeface="Arial"/>
              </a:rPr>
              <a:t>研究課進一步改善建議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1" name="投影片編號版面配置區 1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C820-3942-4785-BA31-BD875DC18A4F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2" name="圓角矩形圖說文字 6"/>
          <p:cNvSpPr/>
          <p:nvPr/>
        </p:nvSpPr>
        <p:spPr>
          <a:xfrm>
            <a:off x="5048280" y="3490920"/>
            <a:ext cx="3852720" cy="2214720"/>
          </a:xfrm>
          <a:prstGeom prst="pie">
            <a:avLst/>
          </a:prstGeom>
          <a:solidFill>
            <a:srgbClr val="f2f2f2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        </a:t>
            </a:r>
            <a:r>
              <a:rPr b="1" lang="en-US" sz="1600" spc="-1" strike="noStrike">
                <a:solidFill>
                  <a:srgbClr val="464646"/>
                </a:solidFill>
                <a:latin typeface="標楷體"/>
                <a:ea typeface="標楷體"/>
              </a:rPr>
              <a:t>---</a:t>
            </a:r>
            <a:r>
              <a:rPr b="1" lang="zh-TW" sz="1600" spc="-1" strike="noStrike">
                <a:solidFill>
                  <a:srgbClr val="464646"/>
                </a:solidFill>
                <a:latin typeface="標楷體"/>
                <a:ea typeface="標楷體"/>
              </a:rPr>
              <a:t> </a:t>
            </a:r>
            <a:r>
              <a:rPr b="1" lang="zh-TW" sz="1600" spc="-1" strike="noStrike">
                <a:solidFill>
                  <a:srgbClr val="464646"/>
                </a:solidFill>
                <a:latin typeface="標楷體"/>
                <a:ea typeface="標楷體"/>
              </a:rPr>
              <a:t>建議由老師統一顯示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3" name="文字方塊 8"/>
          <p:cNvSpPr/>
          <p:nvPr/>
        </p:nvSpPr>
        <p:spPr>
          <a:xfrm>
            <a:off x="1286640" y="130032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---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zh-TW" sz="1800" spc="-1" strike="noStrike">
                <a:solidFill>
                  <a:srgbClr val="080808"/>
                </a:solidFill>
                <a:latin typeface="Arial"/>
              </a:rPr>
              <a:t>將步驟統一顯示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4" name="橢圓 9"/>
          <p:cNvSpPr/>
          <p:nvPr/>
        </p:nvSpPr>
        <p:spPr>
          <a:xfrm>
            <a:off x="4572000" y="2954160"/>
            <a:ext cx="1387440" cy="50328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5" name="橢圓 10"/>
          <p:cNvSpPr/>
          <p:nvPr/>
        </p:nvSpPr>
        <p:spPr>
          <a:xfrm>
            <a:off x="2843280" y="5084640"/>
            <a:ext cx="2205000" cy="15130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Picture 3" descr=""/>
          <p:cNvPicPr/>
          <p:nvPr/>
        </p:nvPicPr>
        <p:blipFill>
          <a:blip r:embed="rId1"/>
          <a:srcRect l="33291" t="50002" r="1843" b="15790"/>
          <a:stretch/>
        </p:blipFill>
        <p:spPr>
          <a:xfrm>
            <a:off x="617400" y="4508640"/>
            <a:ext cx="6069240" cy="1800000"/>
          </a:xfrm>
          <a:prstGeom prst="rect">
            <a:avLst/>
          </a:prstGeom>
          <a:ln w="9360">
            <a:solidFill>
              <a:srgbClr val="080808"/>
            </a:solidFill>
            <a:miter/>
          </a:ln>
        </p:spPr>
      </p:pic>
      <p:grpSp>
        <p:nvGrpSpPr>
          <p:cNvPr id="797" name="群組 2"/>
          <p:cNvGrpSpPr/>
          <p:nvPr/>
        </p:nvGrpSpPr>
        <p:grpSpPr>
          <a:xfrm>
            <a:off x="755640" y="1844640"/>
            <a:ext cx="7201080" cy="2135160"/>
            <a:chOff x="755640" y="1844640"/>
            <a:chExt cx="7201080" cy="2135160"/>
          </a:xfrm>
        </p:grpSpPr>
        <p:pic>
          <p:nvPicPr>
            <p:cNvPr id="798" name="Picture 2" descr=""/>
            <p:cNvPicPr/>
            <p:nvPr/>
          </p:nvPicPr>
          <p:blipFill>
            <a:blip r:embed="rId2"/>
            <a:srcRect l="41299" t="15479" r="6640" b="79734"/>
            <a:stretch/>
          </p:blipFill>
          <p:spPr>
            <a:xfrm>
              <a:off x="755640" y="1844640"/>
              <a:ext cx="7201080" cy="372600"/>
            </a:xfrm>
            <a:prstGeom prst="rect">
              <a:avLst/>
            </a:prstGeom>
            <a:ln w="9360">
              <a:solidFill>
                <a:srgbClr val="080808"/>
              </a:solidFill>
              <a:miter/>
            </a:ln>
          </p:spPr>
        </p:pic>
        <p:pic>
          <p:nvPicPr>
            <p:cNvPr id="799" name="Picture 2" descr=""/>
            <p:cNvPicPr/>
            <p:nvPr/>
          </p:nvPicPr>
          <p:blipFill>
            <a:blip r:embed="rId3"/>
            <a:srcRect l="41299" t="32556" r="6640" b="44794"/>
            <a:stretch/>
          </p:blipFill>
          <p:spPr>
            <a:xfrm>
              <a:off x="755640" y="2217240"/>
              <a:ext cx="7201080" cy="1762560"/>
            </a:xfrm>
            <a:prstGeom prst="rect">
              <a:avLst/>
            </a:prstGeom>
            <a:ln w="9360">
              <a:solidFill>
                <a:srgbClr val="080808"/>
              </a:solidFill>
              <a:miter/>
            </a:ln>
          </p:spPr>
        </p:pic>
      </p:grpSp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609120" y="304920"/>
            <a:ext cx="75488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 algn="ctr">
              <a:lnSpc>
                <a:spcPct val="120000"/>
              </a:lnSpc>
              <a:spcAft>
                <a:spcPts val="27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00"/>
                </a:solidFill>
                <a:latin typeface="Arial"/>
              </a:rPr>
              <a:t>研究課進一步改善建議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1" name="投影片編號版面配置區 1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DFC7-5654-4E4F-B73B-2DC45A75FDE9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2" name="文字方塊 8"/>
          <p:cNvSpPr/>
          <p:nvPr/>
        </p:nvSpPr>
        <p:spPr>
          <a:xfrm>
            <a:off x="1108800" y="130032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---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zh-TW" sz="1800" spc="-1" strike="noStrike">
                <a:solidFill>
                  <a:srgbClr val="080808"/>
                </a:solidFill>
                <a:latin typeface="Arial"/>
              </a:rPr>
              <a:t>數學關鍵詞與解釋作配對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3" name="橢圓 9"/>
          <p:cNvSpPr/>
          <p:nvPr/>
        </p:nvSpPr>
        <p:spPr>
          <a:xfrm>
            <a:off x="2998800" y="3573360"/>
            <a:ext cx="2073240" cy="50328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4" name="文字方塊 13"/>
          <p:cNvSpPr/>
          <p:nvPr/>
        </p:nvSpPr>
        <p:spPr>
          <a:xfrm>
            <a:off x="677160" y="4140360"/>
            <a:ext cx="81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工作紙一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(</a:t>
            </a: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節錄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609120" y="304920"/>
            <a:ext cx="75488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 algn="ctr">
              <a:lnSpc>
                <a:spcPct val="120000"/>
              </a:lnSpc>
              <a:spcAft>
                <a:spcPts val="27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00"/>
                </a:solidFill>
                <a:latin typeface="Arial"/>
              </a:rPr>
              <a:t>研究課進一步改善建議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6" name="投影片編號版面配置區 1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C2D4-27FD-4EC9-9171-73EBDC3EFA3C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7" name="文字方塊 8"/>
          <p:cNvSpPr/>
          <p:nvPr/>
        </p:nvSpPr>
        <p:spPr>
          <a:xfrm>
            <a:off x="5765040" y="165096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---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照顧學習差異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08" name="Picture 5" descr=""/>
          <p:cNvPicPr/>
          <p:nvPr/>
        </p:nvPicPr>
        <p:blipFill>
          <a:blip r:embed="rId1"/>
          <a:srcRect l="37500" t="13148" r="23228" b="9260"/>
          <a:stretch/>
        </p:blipFill>
        <p:spPr>
          <a:xfrm>
            <a:off x="468360" y="1500120"/>
            <a:ext cx="4535280" cy="5041800"/>
          </a:xfrm>
          <a:prstGeom prst="rect">
            <a:avLst/>
          </a:prstGeom>
          <a:ln w="9360">
            <a:solidFill>
              <a:srgbClr val="080808"/>
            </a:solidFill>
            <a:miter/>
          </a:ln>
        </p:spPr>
      </p:pic>
      <p:sp>
        <p:nvSpPr>
          <p:cNvPr id="809" name="文字方塊 14"/>
          <p:cNvSpPr/>
          <p:nvPr/>
        </p:nvSpPr>
        <p:spPr>
          <a:xfrm>
            <a:off x="342360" y="1131840"/>
            <a:ext cx="11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Arial"/>
              </a:rPr>
              <a:t>工作紙二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(</a:t>
            </a:r>
            <a:r>
              <a:rPr b="0" lang="zh-TW" sz="1600" spc="-1" strike="noStrike">
                <a:solidFill>
                  <a:srgbClr val="080808"/>
                </a:solidFill>
                <a:latin typeface="Arial"/>
              </a:rPr>
              <a:t>節錄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0" name="圓角矩形圖說文字 16"/>
          <p:cNvSpPr/>
          <p:nvPr/>
        </p:nvSpPr>
        <p:spPr>
          <a:xfrm>
            <a:off x="5364000" y="3141720"/>
            <a:ext cx="1944720" cy="1150920"/>
          </a:xfrm>
          <a:prstGeom prst="wedgeRoundRectCallout">
            <a:avLst>
              <a:gd name="adj1" fmla="val -165884"/>
              <a:gd name="adj2" fmla="val -67148"/>
              <a:gd name="adj3" fmla="val 16667"/>
            </a:avLst>
          </a:prstGeom>
          <a:solidFill>
            <a:srgbClr val="f2f2f2"/>
          </a:solidFill>
          <a:ln w="25560">
            <a:solidFill>
              <a:srgbClr val="347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跳步</a:t>
            </a:r>
            <a:r>
              <a:rPr b="1" lang="en-US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?</a:t>
            </a: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 </a:t>
            </a: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其他方法</a:t>
            </a:r>
            <a:r>
              <a:rPr b="1" lang="en-US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?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1" name="橢圓 5"/>
          <p:cNvSpPr/>
          <p:nvPr/>
        </p:nvSpPr>
        <p:spPr>
          <a:xfrm>
            <a:off x="330120" y="1943280"/>
            <a:ext cx="2621160" cy="144144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1676520" y="30492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 algn="ctr">
              <a:lnSpc>
                <a:spcPct val="120000"/>
              </a:lnSpc>
              <a:spcAft>
                <a:spcPts val="27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00"/>
                </a:solidFill>
                <a:latin typeface="Arial"/>
              </a:rPr>
              <a:t>反思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3" name="Rectangle 3"/>
          <p:cNvSpPr/>
          <p:nvPr/>
        </p:nvSpPr>
        <p:spPr>
          <a:xfrm>
            <a:off x="457200" y="1951200"/>
            <a:ext cx="82296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--- 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以學生的學習角度出發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--- 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透過前測及訪談能了解學生的學習難點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--- 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課堂上多些展示學生的課業，能清楚學生的錯處，並作出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即時的回饋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--- 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照顧學習的差異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--- 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適當調節課堂內容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: 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練習、小結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4" name="投影片編號版面配置區 1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AC1C-676E-4672-8084-E6815A4D3F9A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File"/>
          <p:cNvSpPr/>
          <p:nvPr/>
        </p:nvSpPr>
        <p:spPr>
          <a:xfrm>
            <a:off x="4716360" y="5467320"/>
            <a:ext cx="1727280" cy="111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0c0c0"/>
                </a:solidFill>
                <a:latin typeface="Times New Roman"/>
              </a:rPr>
              <a:t>檢討學習成效</a:t>
            </a:r>
            <a:r>
              <a:rPr b="0" lang="en-US" sz="1800" spc="-1" strike="noStrike">
                <a:solidFill>
                  <a:srgbClr val="c0c0c0"/>
                </a:solidFill>
                <a:latin typeface="Times New Roman"/>
              </a:rPr>
              <a:t>(</a:t>
            </a:r>
            <a:r>
              <a:rPr b="0" lang="zh-TW" sz="1800" spc="-1" strike="noStrike">
                <a:solidFill>
                  <a:srgbClr val="c0c0c0"/>
                </a:solidFill>
                <a:latin typeface="Times New Roman"/>
              </a:rPr>
              <a:t>後測、學生訪談</a:t>
            </a:r>
            <a:r>
              <a:rPr b="0" lang="en-US" sz="1800" spc="-1" strike="noStrike">
                <a:solidFill>
                  <a:srgbClr val="c0c0c0"/>
                </a:solidFill>
                <a:latin typeface="Times New Roman"/>
              </a:rPr>
              <a:t>) </a:t>
            </a:r>
            <a:r>
              <a:rPr b="1" lang="en-US" sz="1800" spc="-1" strike="noStrike">
                <a:solidFill>
                  <a:srgbClr val="c0c0c0"/>
                </a:solidFill>
                <a:latin typeface="Times New Roman"/>
              </a:rPr>
              <a:t>(V1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6" name="AutoShape 3"/>
          <p:cNvSpPr/>
          <p:nvPr/>
        </p:nvSpPr>
        <p:spPr>
          <a:xfrm rot="10800000">
            <a:off x="6638400" y="5946840"/>
            <a:ext cx="287640" cy="288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7" name="File"/>
          <p:cNvSpPr/>
          <p:nvPr/>
        </p:nvSpPr>
        <p:spPr>
          <a:xfrm>
            <a:off x="633240" y="550800"/>
            <a:ext cx="1368720" cy="1125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0c0c0"/>
                </a:solidFill>
                <a:latin typeface="Times New Roman"/>
              </a:rPr>
              <a:t>選擇研究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0c0c0"/>
                </a:solidFill>
                <a:latin typeface="Times New Roman"/>
              </a:rPr>
              <a:t>的課題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Times New Roman"/>
              </a:rPr>
              <a:t>(V2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8" name="File"/>
          <p:cNvSpPr/>
          <p:nvPr/>
        </p:nvSpPr>
        <p:spPr>
          <a:xfrm>
            <a:off x="7091280" y="550800"/>
            <a:ext cx="1368360" cy="1125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0c0c0"/>
                </a:solidFill>
                <a:latin typeface="Arial"/>
              </a:rPr>
              <a:t>確認學習內容及其關鍵特徵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9" name="AutoShape 6"/>
          <p:cNvSpPr/>
          <p:nvPr/>
        </p:nvSpPr>
        <p:spPr>
          <a:xfrm>
            <a:off x="6534000" y="1160640"/>
            <a:ext cx="287640" cy="288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0" name="File"/>
          <p:cNvSpPr/>
          <p:nvPr/>
        </p:nvSpPr>
        <p:spPr>
          <a:xfrm>
            <a:off x="7159680" y="2921040"/>
            <a:ext cx="1368360" cy="11937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0c0c0"/>
                </a:solidFill>
                <a:latin typeface="Times New Roman"/>
              </a:rPr>
              <a:t>教學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0c0c0"/>
                </a:solidFill>
                <a:latin typeface="Times New Roman"/>
              </a:rPr>
              <a:t>設計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Times New Roman"/>
              </a:rPr>
              <a:t>(V2, V3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1" name="AutoShape 8"/>
          <p:cNvSpPr/>
          <p:nvPr/>
        </p:nvSpPr>
        <p:spPr>
          <a:xfrm rot="5400000">
            <a:off x="7782120" y="2302560"/>
            <a:ext cx="287280" cy="28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2" name="File"/>
          <p:cNvSpPr/>
          <p:nvPr/>
        </p:nvSpPr>
        <p:spPr>
          <a:xfrm>
            <a:off x="7236000" y="5270400"/>
            <a:ext cx="1368360" cy="11113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0c0c0"/>
                </a:solidFill>
                <a:latin typeface="Times New Roman"/>
              </a:rPr>
              <a:t>教學實踐、觀課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Times New Roman"/>
              </a:rPr>
              <a:t>(V1, 2, 3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3" name="AutoShape 10"/>
          <p:cNvSpPr/>
          <p:nvPr/>
        </p:nvSpPr>
        <p:spPr>
          <a:xfrm rot="5400000">
            <a:off x="7858440" y="4588560"/>
            <a:ext cx="287280" cy="28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4" name="File"/>
          <p:cNvSpPr/>
          <p:nvPr/>
        </p:nvSpPr>
        <p:spPr>
          <a:xfrm>
            <a:off x="2562120" y="5450040"/>
            <a:ext cx="1368360" cy="11318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0c0c0"/>
                </a:solidFill>
                <a:latin typeface="Times New Roman"/>
              </a:rPr>
              <a:t>檢討整體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0c0c0"/>
                </a:solidFill>
                <a:latin typeface="Times New Roman"/>
              </a:rPr>
              <a:t>教學成效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Times New Roman"/>
              </a:rPr>
              <a:t>(V2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5" name="AutoShape 12"/>
          <p:cNvSpPr/>
          <p:nvPr/>
        </p:nvSpPr>
        <p:spPr>
          <a:xfrm rot="10800000">
            <a:off x="4211640" y="5924160"/>
            <a:ext cx="287280" cy="28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6" name="File"/>
          <p:cNvSpPr/>
          <p:nvPr/>
        </p:nvSpPr>
        <p:spPr>
          <a:xfrm>
            <a:off x="4643280" y="511200"/>
            <a:ext cx="1729080" cy="11653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0c0c0"/>
                </a:solidFill>
                <a:latin typeface="Times New Roman"/>
              </a:rPr>
              <a:t>診斷學習困難 </a:t>
            </a:r>
            <a:r>
              <a:rPr b="0" lang="en-US" sz="1800" spc="-1" strike="noStrike">
                <a:solidFill>
                  <a:srgbClr val="c0c0c0"/>
                </a:solidFill>
                <a:latin typeface="Times New Roman"/>
              </a:rPr>
              <a:t>(</a:t>
            </a:r>
            <a:r>
              <a:rPr b="0" lang="zh-TW" sz="1800" spc="-1" strike="noStrike">
                <a:solidFill>
                  <a:srgbClr val="c0c0c0"/>
                </a:solidFill>
                <a:latin typeface="Times New Roman"/>
              </a:rPr>
              <a:t>前測、學生訪談</a:t>
            </a:r>
            <a:r>
              <a:rPr b="0" lang="en-US" sz="1800" spc="-1" strike="noStrike">
                <a:solidFill>
                  <a:srgbClr val="c0c0c0"/>
                </a:solidFill>
                <a:latin typeface="Times New Roman"/>
              </a:rPr>
              <a:t>) </a:t>
            </a:r>
            <a:r>
              <a:rPr b="1" lang="en-US" sz="1800" spc="-1" strike="noStrike">
                <a:solidFill>
                  <a:srgbClr val="c0c0c0"/>
                </a:solidFill>
                <a:latin typeface="Times New Roman"/>
              </a:rPr>
              <a:t>(V1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7" name="AutoShape 14"/>
          <p:cNvSpPr/>
          <p:nvPr/>
        </p:nvSpPr>
        <p:spPr>
          <a:xfrm>
            <a:off x="2139840" y="1160640"/>
            <a:ext cx="287280" cy="288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8" name="File"/>
          <p:cNvSpPr/>
          <p:nvPr/>
        </p:nvSpPr>
        <p:spPr>
          <a:xfrm>
            <a:off x="496800" y="5378400"/>
            <a:ext cx="1368360" cy="11271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6600ff"/>
                </a:solidFill>
                <a:latin typeface="Arial"/>
              </a:rPr>
              <a:t>分享成果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6600ff"/>
                </a:solidFill>
                <a:latin typeface="Arial"/>
              </a:rPr>
              <a:t>撰寫報告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V2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9" name="AutoShape 16"/>
          <p:cNvSpPr/>
          <p:nvPr/>
        </p:nvSpPr>
        <p:spPr>
          <a:xfrm rot="10800000">
            <a:off x="2050560" y="5835240"/>
            <a:ext cx="287640" cy="28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0" name="File"/>
          <p:cNvSpPr/>
          <p:nvPr/>
        </p:nvSpPr>
        <p:spPr>
          <a:xfrm>
            <a:off x="2685960" y="555480"/>
            <a:ext cx="1368360" cy="11210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0c0c0"/>
                </a:solidFill>
                <a:latin typeface="Times New Roman"/>
              </a:rPr>
              <a:t>初擬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0c0c0"/>
                </a:solidFill>
                <a:latin typeface="Times New Roman"/>
              </a:rPr>
              <a:t>學習內容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Times New Roman"/>
              </a:rPr>
              <a:t>(V2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1" name="AutoShape 18"/>
          <p:cNvSpPr/>
          <p:nvPr/>
        </p:nvSpPr>
        <p:spPr>
          <a:xfrm>
            <a:off x="4290840" y="1165320"/>
            <a:ext cx="287640" cy="288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2" name="AutoShape 19"/>
          <p:cNvSpPr/>
          <p:nvPr/>
        </p:nvSpPr>
        <p:spPr>
          <a:xfrm>
            <a:off x="492120" y="1916280"/>
            <a:ext cx="838080" cy="3200400"/>
          </a:xfrm>
          <a:prstGeom prst="upArrow">
            <a:avLst>
              <a:gd name="adj1" fmla="val 50000"/>
              <a:gd name="adj2" fmla="val 95468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80808"/>
                </a:solidFill>
                <a:latin typeface="Arial"/>
                <a:ea typeface="標楷體"/>
              </a:rPr>
              <a:t>另一循環的課堂學習研究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3" name="Line 20"/>
          <p:cNvSpPr/>
          <p:nvPr/>
        </p:nvSpPr>
        <p:spPr>
          <a:xfrm>
            <a:off x="1682640" y="189000"/>
            <a:ext cx="5639040" cy="0"/>
          </a:xfrm>
          <a:prstGeom prst="line">
            <a:avLst/>
          </a:prstGeom>
          <a:ln w="19080">
            <a:solidFill>
              <a:srgbClr val="08080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4" name="Line 21"/>
          <p:cNvSpPr/>
          <p:nvPr/>
        </p:nvSpPr>
        <p:spPr>
          <a:xfrm flipH="1">
            <a:off x="1910880" y="2035080"/>
            <a:ext cx="838440" cy="0"/>
          </a:xfrm>
          <a:prstGeom prst="line">
            <a:avLst/>
          </a:prstGeom>
          <a:ln w="19080">
            <a:solidFill>
              <a:srgbClr val="080808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5" name="Line 22"/>
          <p:cNvSpPr/>
          <p:nvPr/>
        </p:nvSpPr>
        <p:spPr>
          <a:xfrm flipV="1">
            <a:off x="1606680" y="1763640"/>
            <a:ext cx="0" cy="271440"/>
          </a:xfrm>
          <a:prstGeom prst="line">
            <a:avLst/>
          </a:prstGeom>
          <a:ln w="19080">
            <a:solidFill>
              <a:srgbClr val="080808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6" name="Line 23"/>
          <p:cNvSpPr/>
          <p:nvPr/>
        </p:nvSpPr>
        <p:spPr>
          <a:xfrm>
            <a:off x="5873760" y="2035080"/>
            <a:ext cx="838080" cy="0"/>
          </a:xfrm>
          <a:prstGeom prst="line">
            <a:avLst/>
          </a:prstGeom>
          <a:ln w="19080">
            <a:solidFill>
              <a:srgbClr val="080808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7" name="Line 24"/>
          <p:cNvSpPr/>
          <p:nvPr/>
        </p:nvSpPr>
        <p:spPr>
          <a:xfrm>
            <a:off x="7321680" y="189000"/>
            <a:ext cx="0" cy="339480"/>
          </a:xfrm>
          <a:prstGeom prst="line">
            <a:avLst/>
          </a:prstGeom>
          <a:ln w="19080">
            <a:solidFill>
              <a:srgbClr val="080808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8" name="Line 25"/>
          <p:cNvSpPr/>
          <p:nvPr/>
        </p:nvSpPr>
        <p:spPr>
          <a:xfrm flipH="1">
            <a:off x="1987200" y="189000"/>
            <a:ext cx="762120" cy="0"/>
          </a:xfrm>
          <a:prstGeom prst="line">
            <a:avLst/>
          </a:prstGeom>
          <a:ln w="19080">
            <a:solidFill>
              <a:srgbClr val="080808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9" name="Line 26"/>
          <p:cNvSpPr/>
          <p:nvPr/>
        </p:nvSpPr>
        <p:spPr>
          <a:xfrm>
            <a:off x="5950080" y="189000"/>
            <a:ext cx="761760" cy="0"/>
          </a:xfrm>
          <a:prstGeom prst="line">
            <a:avLst/>
          </a:prstGeom>
          <a:ln w="19080">
            <a:solidFill>
              <a:srgbClr val="080808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0" name="Line 27"/>
          <p:cNvSpPr/>
          <p:nvPr/>
        </p:nvSpPr>
        <p:spPr>
          <a:xfrm>
            <a:off x="1606680" y="2035080"/>
            <a:ext cx="5790960" cy="0"/>
          </a:xfrm>
          <a:prstGeom prst="line">
            <a:avLst/>
          </a:prstGeom>
          <a:ln w="19080">
            <a:solidFill>
              <a:srgbClr val="08080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1" name="Line 28"/>
          <p:cNvSpPr/>
          <p:nvPr/>
        </p:nvSpPr>
        <p:spPr>
          <a:xfrm flipV="1">
            <a:off x="7451640" y="1763640"/>
            <a:ext cx="0" cy="271440"/>
          </a:xfrm>
          <a:prstGeom prst="line">
            <a:avLst/>
          </a:prstGeom>
          <a:ln w="19080">
            <a:solidFill>
              <a:srgbClr val="080808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2" name="Line 29"/>
          <p:cNvSpPr/>
          <p:nvPr/>
        </p:nvSpPr>
        <p:spPr>
          <a:xfrm>
            <a:off x="5416560" y="189000"/>
            <a:ext cx="0" cy="339480"/>
          </a:xfrm>
          <a:prstGeom prst="line">
            <a:avLst/>
          </a:prstGeom>
          <a:ln w="19080">
            <a:solidFill>
              <a:srgbClr val="080808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3" name="Line 30"/>
          <p:cNvSpPr/>
          <p:nvPr/>
        </p:nvSpPr>
        <p:spPr>
          <a:xfrm>
            <a:off x="3664080" y="189000"/>
            <a:ext cx="0" cy="339480"/>
          </a:xfrm>
          <a:prstGeom prst="line">
            <a:avLst/>
          </a:prstGeom>
          <a:ln w="19080">
            <a:solidFill>
              <a:srgbClr val="080808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4" name="Line 31"/>
          <p:cNvSpPr/>
          <p:nvPr/>
        </p:nvSpPr>
        <p:spPr>
          <a:xfrm>
            <a:off x="1682640" y="189000"/>
            <a:ext cx="0" cy="339480"/>
          </a:xfrm>
          <a:prstGeom prst="line">
            <a:avLst/>
          </a:prstGeom>
          <a:ln w="19080">
            <a:solidFill>
              <a:srgbClr val="080808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5" name="Line 32"/>
          <p:cNvSpPr/>
          <p:nvPr/>
        </p:nvSpPr>
        <p:spPr>
          <a:xfrm flipV="1">
            <a:off x="3740040" y="1752120"/>
            <a:ext cx="0" cy="273240"/>
          </a:xfrm>
          <a:prstGeom prst="line">
            <a:avLst/>
          </a:prstGeom>
          <a:ln w="19080">
            <a:solidFill>
              <a:srgbClr val="080808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6" name="Line 33"/>
          <p:cNvSpPr/>
          <p:nvPr/>
        </p:nvSpPr>
        <p:spPr>
          <a:xfrm flipV="1">
            <a:off x="5492880" y="1752120"/>
            <a:ext cx="0" cy="273240"/>
          </a:xfrm>
          <a:prstGeom prst="line">
            <a:avLst/>
          </a:prstGeom>
          <a:ln w="19080">
            <a:solidFill>
              <a:srgbClr val="080808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7" name="Rectangle 34"/>
          <p:cNvSpPr/>
          <p:nvPr/>
        </p:nvSpPr>
        <p:spPr>
          <a:xfrm>
            <a:off x="6423120" y="4437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c0c0c0"/>
                </a:solidFill>
                <a:latin typeface="Arial"/>
              </a:rPr>
              <a:t>進行數輪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c0c0c0"/>
                </a:solidFill>
                <a:latin typeface="Arial"/>
              </a:rPr>
              <a:t>教學實踐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8" name="AutoShape 35"/>
          <p:cNvSpPr/>
          <p:nvPr/>
        </p:nvSpPr>
        <p:spPr>
          <a:xfrm flipV="1" rot="1671600">
            <a:off x="6121440" y="3511080"/>
            <a:ext cx="538200" cy="1863720"/>
          </a:xfrm>
          <a:custGeom>
            <a:avLst/>
            <a:gdLst>
              <a:gd name="textAreaLeft" fmla="*/ 72000 w 538200"/>
              <a:gd name="textAreaRight" fmla="*/ 466200 w 538200"/>
              <a:gd name="textAreaTop" fmla="*/ 325800 h 1863720"/>
              <a:gd name="textAreaBottom" fmla="*/ 1351080 h 186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99">
              <a:alpha val="6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9" name="Text Box 36"/>
          <p:cNvSpPr/>
          <p:nvPr/>
        </p:nvSpPr>
        <p:spPr>
          <a:xfrm>
            <a:off x="2727000" y="3025800"/>
            <a:ext cx="27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~ </a:t>
            </a:r>
            <a:r>
              <a:rPr b="0" lang="zh-TW" sz="3600" spc="-1" strike="noStrike">
                <a:solidFill>
                  <a:srgbClr val="080808"/>
                </a:solidFill>
                <a:latin typeface="Arial"/>
              </a:rPr>
              <a:t>完了，謝謝</a:t>
            </a: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﹗</a:t>
            </a: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~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0" name="投影片編號版面配置區 1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51A2-4C8C-448A-9456-B115FDE26853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3" descr="一張含有 文字 的圖片&#10;&#10;描述是以非常高的可信度產生"/>
          <p:cNvPicPr/>
          <p:nvPr/>
        </p:nvPicPr>
        <p:blipFill>
          <a:blip r:embed="rId1"/>
          <a:stretch/>
        </p:blipFill>
        <p:spPr>
          <a:xfrm>
            <a:off x="1738440" y="444600"/>
            <a:ext cx="5540400" cy="5842080"/>
          </a:xfrm>
          <a:prstGeom prst="rect">
            <a:avLst/>
          </a:prstGeom>
          <a:ln w="0">
            <a:noFill/>
          </a:ln>
        </p:spPr>
      </p:pic>
      <p:sp>
        <p:nvSpPr>
          <p:cNvPr id="666" name="投影片編號版面配置區 1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20E3-E427-4FFE-B5A7-5D1945865943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File"/>
          <p:cNvSpPr/>
          <p:nvPr/>
        </p:nvSpPr>
        <p:spPr>
          <a:xfrm>
            <a:off x="633240" y="550800"/>
            <a:ext cx="1368720" cy="1125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0c0c0"/>
                </a:solidFill>
                <a:latin typeface="Times New Roman"/>
              </a:rPr>
              <a:t>選擇研究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0c0c0"/>
                </a:solidFill>
                <a:latin typeface="Times New Roman"/>
              </a:rPr>
              <a:t>的課題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Times New Roman"/>
              </a:rPr>
              <a:t>(V2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8" name="AutoShape 3"/>
          <p:cNvSpPr/>
          <p:nvPr/>
        </p:nvSpPr>
        <p:spPr>
          <a:xfrm>
            <a:off x="2139840" y="1160640"/>
            <a:ext cx="287280" cy="288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9" name="File"/>
          <p:cNvSpPr/>
          <p:nvPr/>
        </p:nvSpPr>
        <p:spPr>
          <a:xfrm>
            <a:off x="2685960" y="555480"/>
            <a:ext cx="1368360" cy="11210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6600ff"/>
                </a:solidFill>
                <a:latin typeface="Times New Roman"/>
              </a:rPr>
              <a:t>初擬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6600ff"/>
                </a:solidFill>
                <a:latin typeface="Times New Roman"/>
              </a:rPr>
              <a:t>學習內容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V2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0" name="AutoShape 5"/>
          <p:cNvSpPr/>
          <p:nvPr/>
        </p:nvSpPr>
        <p:spPr>
          <a:xfrm>
            <a:off x="4290840" y="1165320"/>
            <a:ext cx="287640" cy="288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1" name="Text Box 6"/>
          <p:cNvSpPr/>
          <p:nvPr/>
        </p:nvSpPr>
        <p:spPr>
          <a:xfrm>
            <a:off x="785880" y="2035080"/>
            <a:ext cx="794844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ff3300"/>
                </a:solidFill>
                <a:uFillTx/>
                <a:latin typeface="標楷體"/>
                <a:ea typeface="標楷體"/>
              </a:rPr>
              <a:t>課題</a:t>
            </a:r>
            <a:r>
              <a:rPr b="1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：數列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ff3300"/>
                </a:solidFill>
                <a:uFillTx/>
                <a:latin typeface="標楷體"/>
                <a:ea typeface="標楷體"/>
              </a:rPr>
              <a:t>初擬的學習內容</a:t>
            </a:r>
            <a:r>
              <a:rPr b="1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：從逆向</a:t>
            </a:r>
            <a:r>
              <a:rPr b="1" lang="en-US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/</a:t>
            </a:r>
            <a:r>
              <a:rPr b="1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正向判斷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                </a:t>
            </a:r>
            <a:r>
              <a:rPr b="1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數列的規律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857160" y="4861080"/>
            <a:ext cx="659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  <a:ea typeface="Arial"/>
              </a:rPr>
              <a:t>CF1. 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  <a:ea typeface="Arial"/>
              </a:rPr>
              <a:t>數列之間有固定的 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  <a:ea typeface="Arial"/>
              </a:rPr>
              <a:t>"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  <a:ea typeface="Arial"/>
              </a:rPr>
              <a:t>差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  <a:ea typeface="Arial"/>
              </a:rPr>
              <a:t>"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  <a:ea typeface="Arial"/>
              </a:rPr>
              <a:t>CF2. 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  <a:ea typeface="Arial"/>
              </a:rPr>
              <a:t>數列之間有固定的 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  <a:ea typeface="Arial"/>
              </a:rPr>
              <a:t>"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  <a:ea typeface="Arial"/>
              </a:rPr>
              <a:t>比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  <a:ea typeface="Arial"/>
              </a:rPr>
              <a:t>"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3" name="投影片編號版面配置區 2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AC05-62C3-43AF-BB6C-66D57257EA19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File"/>
          <p:cNvSpPr/>
          <p:nvPr/>
        </p:nvSpPr>
        <p:spPr>
          <a:xfrm>
            <a:off x="633240" y="550800"/>
            <a:ext cx="1368720" cy="1125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0c0c0"/>
                </a:solidFill>
                <a:latin typeface="Times New Roman"/>
              </a:rPr>
              <a:t>選擇研究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0c0c0"/>
                </a:solidFill>
                <a:latin typeface="Times New Roman"/>
              </a:rPr>
              <a:t>的課題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Times New Roman"/>
              </a:rPr>
              <a:t>(V2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5" name="AutoShape 3"/>
          <p:cNvSpPr/>
          <p:nvPr/>
        </p:nvSpPr>
        <p:spPr>
          <a:xfrm>
            <a:off x="6534000" y="1160640"/>
            <a:ext cx="287640" cy="288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6" name="File"/>
          <p:cNvSpPr/>
          <p:nvPr/>
        </p:nvSpPr>
        <p:spPr>
          <a:xfrm>
            <a:off x="4643280" y="533520"/>
            <a:ext cx="1729080" cy="11649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6600ff"/>
                </a:solidFill>
                <a:latin typeface="Times New Roman"/>
              </a:rPr>
              <a:t>診斷學習困難 </a:t>
            </a: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(</a:t>
            </a:r>
            <a:r>
              <a:rPr b="0" lang="zh-TW" sz="1800" spc="-1" strike="noStrike">
                <a:solidFill>
                  <a:srgbClr val="6600ff"/>
                </a:solidFill>
                <a:latin typeface="Times New Roman"/>
              </a:rPr>
              <a:t>前測、學生訪談</a:t>
            </a: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)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V1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7" name="AutoShape 5"/>
          <p:cNvSpPr/>
          <p:nvPr/>
        </p:nvSpPr>
        <p:spPr>
          <a:xfrm>
            <a:off x="2139840" y="1160640"/>
            <a:ext cx="287280" cy="288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8" name="File"/>
          <p:cNvSpPr/>
          <p:nvPr/>
        </p:nvSpPr>
        <p:spPr>
          <a:xfrm>
            <a:off x="2685960" y="555480"/>
            <a:ext cx="1368360" cy="11210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0c0c0"/>
                </a:solidFill>
                <a:latin typeface="Times New Roman"/>
              </a:rPr>
              <a:t>初擬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0c0c0"/>
                </a:solidFill>
                <a:latin typeface="Times New Roman"/>
              </a:rPr>
              <a:t>學習內容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Times New Roman"/>
              </a:rPr>
              <a:t>(V2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9" name="AutoShape 7"/>
          <p:cNvSpPr/>
          <p:nvPr/>
        </p:nvSpPr>
        <p:spPr>
          <a:xfrm>
            <a:off x="4290840" y="1165320"/>
            <a:ext cx="287640" cy="288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0" name="Rectangle 8"/>
          <p:cNvSpPr/>
          <p:nvPr/>
        </p:nvSpPr>
        <p:spPr>
          <a:xfrm>
            <a:off x="1600200" y="2757600"/>
            <a:ext cx="7004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ffcc6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cc66"/>
                </a:solidFill>
                <a:latin typeface="Arial"/>
              </a:rPr>
              <a:t>學生的已有知識是什麼？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-- 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了解函數的運算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ffcc6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cc66"/>
                </a:solidFill>
                <a:latin typeface="Arial"/>
              </a:rPr>
              <a:t>學生的學習難點是什麼？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-- 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觀察數列的規律，從而找出數列的通項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1" name="Text Box 9"/>
          <p:cNvSpPr/>
          <p:nvPr/>
        </p:nvSpPr>
        <p:spPr>
          <a:xfrm>
            <a:off x="1833480" y="56926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00"/>
                </a:solidFill>
                <a:latin typeface="Arial"/>
                <a:ea typeface="標楷體"/>
              </a:rPr>
              <a:t>進行前測及分析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2" name="Rectangle 10"/>
          <p:cNvSpPr/>
          <p:nvPr/>
        </p:nvSpPr>
        <p:spPr>
          <a:xfrm>
            <a:off x="2261880" y="52657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00"/>
                </a:solidFill>
                <a:latin typeface="Arial"/>
                <a:ea typeface="標楷體"/>
              </a:rPr>
              <a:t>課前學生訪談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3" name="Rectangle 11"/>
          <p:cNvSpPr/>
          <p:nvPr/>
        </p:nvSpPr>
        <p:spPr>
          <a:xfrm>
            <a:off x="609480" y="22384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Times New Roman"/>
                <a:ea typeface="標楷體"/>
              </a:rPr>
              <a:t>V1:</a:t>
            </a:r>
            <a:r>
              <a:rPr b="1" lang="en-GB" sz="2800" spc="-1" strike="noStrike">
                <a:solidFill>
                  <a:srgbClr val="006600"/>
                </a:solidFill>
                <a:latin typeface="Times New Roman"/>
                <a:ea typeface="標楷體"/>
              </a:rPr>
              <a:t>	</a:t>
            </a:r>
            <a:r>
              <a:rPr b="1" lang="zh-TW" sz="2800" spc="-1" strike="noStrike">
                <a:solidFill>
                  <a:srgbClr val="006600"/>
                </a:solidFill>
                <a:latin typeface="Times New Roman"/>
                <a:ea typeface="標楷體"/>
              </a:rPr>
              <a:t>　學生對所學事物的不同見解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4" name="投影片編號版面配置區 1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B9EC-7D80-4C31-8D19-5A4CB66949BD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00"/>
                </a:solidFill>
                <a:latin typeface="Arial"/>
              </a:rPr>
              <a:t>課前學生訪談的主要結果</a:t>
            </a:r>
            <a:endParaRPr b="0" lang="en-US" sz="4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6" name="Rectangle 4"/>
          <p:cNvSpPr/>
          <p:nvPr/>
        </p:nvSpPr>
        <p:spPr>
          <a:xfrm>
            <a:off x="730080" y="2084400"/>
            <a:ext cx="788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80808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7" name="Rectangle 5"/>
          <p:cNvSpPr/>
          <p:nvPr/>
        </p:nvSpPr>
        <p:spPr>
          <a:xfrm>
            <a:off x="762120" y="3200400"/>
            <a:ext cx="739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468360" y="1504800"/>
            <a:ext cx="8229600" cy="34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對象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5C</a:t>
            </a: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班學生，剛學習此課題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題目及結果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題目有關通項的運用及尋找的方法，學生運 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用的表現良好，尋找方法一般。部份學生不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了解通項的意義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9" name="投影片編號版面配置區 1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D020-B914-4A15-903C-3028FAAFD9F4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00"/>
                </a:solidFill>
                <a:latin typeface="Arial"/>
              </a:rPr>
              <a:t>先導測試及結果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91" name="Rectangle 3"/>
          <p:cNvSpPr/>
          <p:nvPr/>
        </p:nvSpPr>
        <p:spPr>
          <a:xfrm>
            <a:off x="468360" y="1371600"/>
            <a:ext cx="82296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對象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5C</a:t>
            </a:r>
            <a:r>
              <a:rPr b="0" lang="zh-TW" sz="1600" spc="-1" strike="noStrike">
                <a:solidFill>
                  <a:srgbClr val="080808"/>
                </a:solidFill>
                <a:latin typeface="Arial"/>
              </a:rPr>
              <a:t>班學生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結果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Arial"/>
              </a:rPr>
              <a:t>第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0" lang="zh-TW" sz="1600" spc="-1" strike="noStrike">
                <a:solidFill>
                  <a:srgbClr val="080808"/>
                </a:solidFill>
                <a:latin typeface="Arial"/>
              </a:rPr>
              <a:t>、第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0" lang="zh-TW" sz="1600" spc="-1" strike="noStrike">
                <a:solidFill>
                  <a:srgbClr val="080808"/>
                </a:solidFill>
                <a:latin typeface="Arial"/>
              </a:rPr>
              <a:t>、第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3</a:t>
            </a:r>
            <a:r>
              <a:rPr b="0" lang="zh-TW" sz="1600" spc="-1" strike="noStrike">
                <a:solidFill>
                  <a:srgbClr val="080808"/>
                </a:solidFill>
                <a:latin typeface="Arial"/>
              </a:rPr>
              <a:t>題皆正確。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4(a)</a:t>
            </a:r>
            <a:r>
              <a:rPr b="0" lang="zh-TW" sz="1600" spc="-1" strike="noStrike">
                <a:solidFill>
                  <a:srgbClr val="080808"/>
                </a:solidFill>
                <a:latin typeface="Arial"/>
              </a:rPr>
              <a:t>有超過一半學生正確、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4(b)</a:t>
            </a:r>
            <a:r>
              <a:rPr b="0" lang="zh-TW" sz="1600" spc="-1" strike="noStrike">
                <a:solidFill>
                  <a:srgbClr val="080808"/>
                </a:solidFill>
                <a:latin typeface="Arial"/>
              </a:rPr>
              <a:t>只有少部份學生正確。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Arial"/>
              </a:rPr>
              <a:t>第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5</a:t>
            </a:r>
            <a:r>
              <a:rPr b="0" lang="zh-TW" sz="1600" spc="-1" strike="noStrike">
                <a:solidFill>
                  <a:srgbClr val="080808"/>
                </a:solidFill>
                <a:latin typeface="Arial"/>
              </a:rPr>
              <a:t>、第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6</a:t>
            </a:r>
            <a:r>
              <a:rPr b="0" lang="zh-TW" sz="1600" spc="-1" strike="noStrike">
                <a:solidFill>
                  <a:srgbClr val="080808"/>
                </a:solidFill>
                <a:latin typeface="Arial"/>
              </a:rPr>
              <a:t>及第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7</a:t>
            </a:r>
            <a:r>
              <a:rPr b="0" lang="zh-TW" sz="1600" spc="-1" strike="noStrike">
                <a:solidFill>
                  <a:srgbClr val="080808"/>
                </a:solidFill>
                <a:latin typeface="Arial"/>
              </a:rPr>
              <a:t>題有一半學生正確。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改善建議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Arial"/>
              </a:rPr>
              <a:t>題目數量及深淺程度適中。考慮加入有關通項的定義，讓學生了解通項的意義。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6588000" y="1371600"/>
          <a:ext cx="2109960" cy="2664000"/>
        </p:xfrm>
        <a:graphic>
          <a:graphicData uri="http://schemas.openxmlformats.org/drawingml/2006/table">
            <a:tbl>
              <a:tblPr/>
              <a:tblGrid>
                <a:gridCol w="1055880"/>
                <a:gridCol w="1054080"/>
              </a:tblGrid>
              <a:tr h="2430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HK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題目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HK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答對率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2412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2430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2412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82%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2430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4a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76%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2412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4b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1%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2430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5a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59%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2412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5b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53%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2430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6a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59%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2412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6b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65%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2430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53%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693" name="投影片編號版面配置區 2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6DAB-78D2-49A3-B059-963356D83668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301680" y="1599840"/>
            <a:ext cx="8540640" cy="449892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2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4392720" cy="533232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3" descr=""/>
          <p:cNvPicPr/>
          <p:nvPr/>
        </p:nvPicPr>
        <p:blipFill>
          <a:blip r:embed="rId3"/>
          <a:stretch/>
        </p:blipFill>
        <p:spPr>
          <a:xfrm>
            <a:off x="4643280" y="907920"/>
            <a:ext cx="4408560" cy="5400720"/>
          </a:xfrm>
          <a:prstGeom prst="rect">
            <a:avLst/>
          </a:prstGeom>
          <a:ln w="0">
            <a:noFill/>
          </a:ln>
        </p:spPr>
      </p:pic>
      <p:sp>
        <p:nvSpPr>
          <p:cNvPr id="698" name="投影片編號版面配置區 3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25B0-D114-4881-853E-3E1408E46768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2"/>
          <p:cNvSpPr/>
          <p:nvPr/>
        </p:nvSpPr>
        <p:spPr>
          <a:xfrm>
            <a:off x="858600" y="3650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00"/>
                </a:solidFill>
                <a:latin typeface="Arial"/>
              </a:rPr>
              <a:t>前測設計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301680" y="1328760"/>
          <a:ext cx="8461440" cy="4405320"/>
        </p:xfrm>
        <a:graphic>
          <a:graphicData uri="http://schemas.openxmlformats.org/drawingml/2006/table">
            <a:tbl>
              <a:tblPr/>
              <a:tblGrid>
                <a:gridCol w="3716280"/>
                <a:gridCol w="474516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題目內容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測試目標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（如已有知識、關鍵特徵、知識轉移）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96720" indent="-3967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新細明體"/>
                        </a:rPr>
                        <a:t>1,</a:t>
                      </a:r>
                      <a:r>
                        <a:rPr b="0" lang="zh-TW" sz="2000" spc="-1" strike="noStrike">
                          <a:solidFill>
                            <a:srgbClr val="080808"/>
                          </a:solidFill>
                          <a:latin typeface="新細明體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新細明體"/>
                        </a:rPr>
                        <a:t>2,</a:t>
                      </a:r>
                      <a:r>
                        <a:rPr b="0" lang="zh-TW" sz="2000" spc="-1" strike="noStrike">
                          <a:solidFill>
                            <a:srgbClr val="080808"/>
                          </a:solidFill>
                          <a:latin typeface="新細明體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新細明體"/>
                        </a:rPr>
                        <a:t>3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已有知識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新細明體"/>
                        </a:rPr>
                        <a:t>4(a)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關鍵特徵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新細明體"/>
                        </a:rPr>
                        <a:t>4(b)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關鍵特徵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新細明體"/>
                        </a:rPr>
                        <a:t>5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關鍵特徵</a:t>
                      </a:r>
                      <a:r>
                        <a:rPr b="1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, </a:t>
                      </a:r>
                      <a:r>
                        <a:rPr b="1" lang="zh-TW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知識轉移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新細明體"/>
                        </a:rPr>
                        <a:t>6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關鍵特徵</a:t>
                      </a:r>
                      <a:r>
                        <a:rPr b="1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, </a:t>
                      </a:r>
                      <a:r>
                        <a:rPr b="1" lang="zh-TW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知識轉移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新細明體"/>
                        </a:rPr>
                        <a:t>7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關鍵特徵</a:t>
                      </a:r>
                      <a:r>
                        <a:rPr b="1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, </a:t>
                      </a:r>
                      <a:r>
                        <a:rPr b="1" lang="zh-TW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知識轉移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1" name="投影片編號版面配置區 1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1855-5BA4-4C87-9B0E-7147D2EAB977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9T06:56:36Z</dcterms:created>
  <dc:creator>HKIEd</dc:creator>
  <dc:description/>
  <dc:language>en-US</dc:language>
  <cp:lastModifiedBy>NG, Ka Ying [CELT]</cp:lastModifiedBy>
  <cp:lastPrinted>2019-05-29T03:06:50Z</cp:lastPrinted>
  <dcterms:modified xsi:type="dcterms:W3CDTF">2019-08-30T02:55:14Z</dcterms:modified>
  <cp:revision>200</cp:revision>
  <dc:subject/>
  <dc:title>課堂學習研究學習單元 (Learning Study Module)   課程編號：LSP 2005</dc:title>
</cp:coreProperties>
</file>